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  <p:sldId id="289" r:id="rId119"/>
    <p:sldId id="290" r:id="rId120"/>
    <p:sldId id="291" r:id="rId121"/>
    <p:sldId id="292" r:id="rId122"/>
    <p:sldId id="293" r:id="rId123"/>
    <p:sldId id="294" r:id="rId124"/>
    <p:sldId id="295" r:id="rId125"/>
    <p:sldId id="296" r:id="rId126"/>
    <p:sldId id="297" r:id="rId127"/>
    <p:sldId id="298" r:id="rId128"/>
    <p:sldId id="299" r:id="rId129"/>
    <p:sldId id="300" r:id="rId130"/>
    <p:sldId id="301" r:id="rId131"/>
    <p:sldId id="302" r:id="rId132"/>
    <p:sldId id="303" r:id="rId133"/>
    <p:sldId id="304" r:id="rId134"/>
    <p:sldId id="305" r:id="rId135"/>
    <p:sldId id="306" r:id="rId136"/>
    <p:sldId id="307" r:id="rId137"/>
    <p:sldId id="308" r:id="rId138"/>
    <p:sldId id="309" r:id="rId139"/>
    <p:sldId id="310" r:id="rId140"/>
    <p:sldId id="311" r:id="rId141"/>
    <p:sldId id="312" r:id="rId142"/>
    <p:sldId id="313" r:id="rId143"/>
    <p:sldId id="314" r:id="rId144"/>
    <p:sldId id="315" r:id="rId145"/>
    <p:sldId id="316" r:id="rId146"/>
    <p:sldId id="317" r:id="rId147"/>
    <p:sldId id="318" r:id="rId148"/>
    <p:sldId id="319" r:id="rId149"/>
    <p:sldId id="320" r:id="rId150"/>
    <p:sldId id="321" r:id="rId151"/>
    <p:sldId id="322" r:id="rId152"/>
    <p:sldId id="323" r:id="rId153"/>
    <p:sldId id="324" r:id="rId154"/>
    <p:sldId id="325" r:id="rId155"/>
    <p:sldId id="326" r:id="rId156"/>
    <p:sldId id="327" r:id="rId157"/>
    <p:sldId id="328" r:id="rId158"/>
    <p:sldId id="329" r:id="rId159"/>
    <p:sldId id="330" r:id="rId160"/>
    <p:sldId id="331" r:id="rId161"/>
    <p:sldId id="332" r:id="rId162"/>
    <p:sldId id="333" r:id="rId163"/>
    <p:sldId id="334" r:id="rId164"/>
    <p:sldId id="335" r:id="rId165"/>
    <p:sldId id="336" r:id="rId166"/>
    <p:sldId id="337" r:id="rId167"/>
    <p:sldId id="338" r:id="rId168"/>
    <p:sldId id="339" r:id="rId169"/>
    <p:sldId id="340" r:id="rId170"/>
    <p:sldId id="341" r:id="rId171"/>
    <p:sldId id="342" r:id="rId172"/>
    <p:sldId id="343" r:id="rId173"/>
    <p:sldId id="344" r:id="rId174"/>
    <p:sldId id="345" r:id="rId175"/>
    <p:sldId id="346" r:id="rId176"/>
    <p:sldId id="347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slide" Target="slides/slide34.xml"/><Relationship Id="rId120" Type="http://schemas.openxmlformats.org/officeDocument/2006/relationships/slide" Target="slides/slide35.xml"/><Relationship Id="rId121" Type="http://schemas.openxmlformats.org/officeDocument/2006/relationships/slide" Target="slides/slide36.xml"/><Relationship Id="rId122" Type="http://schemas.openxmlformats.org/officeDocument/2006/relationships/slide" Target="slides/slide37.xml"/><Relationship Id="rId123" Type="http://schemas.openxmlformats.org/officeDocument/2006/relationships/slide" Target="slides/slide38.xml"/><Relationship Id="rId124" Type="http://schemas.openxmlformats.org/officeDocument/2006/relationships/slide" Target="slides/slide39.xml"/><Relationship Id="rId125" Type="http://schemas.openxmlformats.org/officeDocument/2006/relationships/slide" Target="slides/slide40.xml"/><Relationship Id="rId126" Type="http://schemas.openxmlformats.org/officeDocument/2006/relationships/slide" Target="slides/slide41.xml"/><Relationship Id="rId127" Type="http://schemas.openxmlformats.org/officeDocument/2006/relationships/slide" Target="slides/slide42.xml"/><Relationship Id="rId128" Type="http://schemas.openxmlformats.org/officeDocument/2006/relationships/slide" Target="slides/slide43.xml"/><Relationship Id="rId129" Type="http://schemas.openxmlformats.org/officeDocument/2006/relationships/slide" Target="slides/slide44.xml"/><Relationship Id="rId130" Type="http://schemas.openxmlformats.org/officeDocument/2006/relationships/slide" Target="slides/slide45.xml"/><Relationship Id="rId131" Type="http://schemas.openxmlformats.org/officeDocument/2006/relationships/slide" Target="slides/slide46.xml"/><Relationship Id="rId132" Type="http://schemas.openxmlformats.org/officeDocument/2006/relationships/slide" Target="slides/slide47.xml"/><Relationship Id="rId133" Type="http://schemas.openxmlformats.org/officeDocument/2006/relationships/slide" Target="slides/slide48.xml"/><Relationship Id="rId134" Type="http://schemas.openxmlformats.org/officeDocument/2006/relationships/slide" Target="slides/slide49.xml"/><Relationship Id="rId135" Type="http://schemas.openxmlformats.org/officeDocument/2006/relationships/slide" Target="slides/slide50.xml"/><Relationship Id="rId136" Type="http://schemas.openxmlformats.org/officeDocument/2006/relationships/slide" Target="slides/slide51.xml"/><Relationship Id="rId137" Type="http://schemas.openxmlformats.org/officeDocument/2006/relationships/slide" Target="slides/slide52.xml"/><Relationship Id="rId138" Type="http://schemas.openxmlformats.org/officeDocument/2006/relationships/slide" Target="slides/slide53.xml"/><Relationship Id="rId139" Type="http://schemas.openxmlformats.org/officeDocument/2006/relationships/slide" Target="slides/slide54.xml"/><Relationship Id="rId140" Type="http://schemas.openxmlformats.org/officeDocument/2006/relationships/slide" Target="slides/slide55.xml"/><Relationship Id="rId141" Type="http://schemas.openxmlformats.org/officeDocument/2006/relationships/slide" Target="slides/slide56.xml"/><Relationship Id="rId142" Type="http://schemas.openxmlformats.org/officeDocument/2006/relationships/slide" Target="slides/slide57.xml"/><Relationship Id="rId143" Type="http://schemas.openxmlformats.org/officeDocument/2006/relationships/slide" Target="slides/slide58.xml"/><Relationship Id="rId144" Type="http://schemas.openxmlformats.org/officeDocument/2006/relationships/slide" Target="slides/slide59.xml"/><Relationship Id="rId145" Type="http://schemas.openxmlformats.org/officeDocument/2006/relationships/slide" Target="slides/slide60.xml"/><Relationship Id="rId146" Type="http://schemas.openxmlformats.org/officeDocument/2006/relationships/slide" Target="slides/slide61.xml"/><Relationship Id="rId147" Type="http://schemas.openxmlformats.org/officeDocument/2006/relationships/slide" Target="slides/slide62.xml"/><Relationship Id="rId148" Type="http://schemas.openxmlformats.org/officeDocument/2006/relationships/slide" Target="slides/slide63.xml"/><Relationship Id="rId149" Type="http://schemas.openxmlformats.org/officeDocument/2006/relationships/slide" Target="slides/slide64.xml"/><Relationship Id="rId150" Type="http://schemas.openxmlformats.org/officeDocument/2006/relationships/slide" Target="slides/slide65.xml"/><Relationship Id="rId151" Type="http://schemas.openxmlformats.org/officeDocument/2006/relationships/slide" Target="slides/slide66.xml"/><Relationship Id="rId152" Type="http://schemas.openxmlformats.org/officeDocument/2006/relationships/slide" Target="slides/slide67.xml"/><Relationship Id="rId153" Type="http://schemas.openxmlformats.org/officeDocument/2006/relationships/slide" Target="slides/slide68.xml"/><Relationship Id="rId154" Type="http://schemas.openxmlformats.org/officeDocument/2006/relationships/slide" Target="slides/slide69.xml"/><Relationship Id="rId155" Type="http://schemas.openxmlformats.org/officeDocument/2006/relationships/slide" Target="slides/slide70.xml"/><Relationship Id="rId156" Type="http://schemas.openxmlformats.org/officeDocument/2006/relationships/slide" Target="slides/slide71.xml"/><Relationship Id="rId157" Type="http://schemas.openxmlformats.org/officeDocument/2006/relationships/slide" Target="slides/slide72.xml"/><Relationship Id="rId158" Type="http://schemas.openxmlformats.org/officeDocument/2006/relationships/slide" Target="slides/slide73.xml"/><Relationship Id="rId159" Type="http://schemas.openxmlformats.org/officeDocument/2006/relationships/slide" Target="slides/slide74.xml"/><Relationship Id="rId160" Type="http://schemas.openxmlformats.org/officeDocument/2006/relationships/slide" Target="slides/slide75.xml"/><Relationship Id="rId161" Type="http://schemas.openxmlformats.org/officeDocument/2006/relationships/slide" Target="slides/slide76.xml"/><Relationship Id="rId162" Type="http://schemas.openxmlformats.org/officeDocument/2006/relationships/slide" Target="slides/slide77.xml"/><Relationship Id="rId163" Type="http://schemas.openxmlformats.org/officeDocument/2006/relationships/slide" Target="slides/slide78.xml"/><Relationship Id="rId164" Type="http://schemas.openxmlformats.org/officeDocument/2006/relationships/slide" Target="slides/slide79.xml"/><Relationship Id="rId165" Type="http://schemas.openxmlformats.org/officeDocument/2006/relationships/slide" Target="slides/slide80.xml"/><Relationship Id="rId166" Type="http://schemas.openxmlformats.org/officeDocument/2006/relationships/slide" Target="slides/slide81.xml"/><Relationship Id="rId167" Type="http://schemas.openxmlformats.org/officeDocument/2006/relationships/slide" Target="slides/slide82.xml"/><Relationship Id="rId168" Type="http://schemas.openxmlformats.org/officeDocument/2006/relationships/slide" Target="slides/slide83.xml"/><Relationship Id="rId169" Type="http://schemas.openxmlformats.org/officeDocument/2006/relationships/slide" Target="slides/slide84.xml"/><Relationship Id="rId170" Type="http://schemas.openxmlformats.org/officeDocument/2006/relationships/slide" Target="slides/slide85.xml"/><Relationship Id="rId171" Type="http://schemas.openxmlformats.org/officeDocument/2006/relationships/slide" Target="slides/slide86.xml"/><Relationship Id="rId172" Type="http://schemas.openxmlformats.org/officeDocument/2006/relationships/slide" Target="slides/slide87.xml"/><Relationship Id="rId173" Type="http://schemas.openxmlformats.org/officeDocument/2006/relationships/slide" Target="slides/slide88.xml"/><Relationship Id="rId174" Type="http://schemas.openxmlformats.org/officeDocument/2006/relationships/slide" Target="slides/slide89.xml"/><Relationship Id="rId175" Type="http://schemas.openxmlformats.org/officeDocument/2006/relationships/slide" Target="slides/slide90.xml"/><Relationship Id="rId176" Type="http://schemas.openxmlformats.org/officeDocument/2006/relationships/slide" Target="slides/slide91.xml"/><Relationship Id="rId177" Type="http://schemas.openxmlformats.org/officeDocument/2006/relationships/slide" Target="slides/slide92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197FA-D6B5-4C00-8B21-45C70CA22B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B9D5-A4E2-4D8D-BD02-AE96F3F0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1F49E-F80E-4A4D-80D2-594DE36DD8AD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677FE4-C834-43A8-861C-BB1F5685EBE6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13F374-1A95-41C5-96A1-B30515A604FF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F820E3-2BB6-4FA9-8C92-ABD8CE791F80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829A7A-96B1-4815-AD7F-5805CC67424B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20F58C-F669-46C9-B81F-04EE6347E0F8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31EE58-7E39-4950-882D-6CB791F23AA9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BFBD63-31E0-4287-8EB1-D6FC323AF1CD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54C9B9-18E4-410E-A439-285C6B582BF9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D4A5A5-ACB0-49DA-9B05-95B59826877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F6363-773F-4397-AE15-591561F001D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8E308-E2E4-4011-9B80-A2C74053334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E8DEB-2358-48D9-9C7D-15A97CE7E88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F1797-1B18-4C52-8830-AD813BC1C9F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17DAD-C9D3-4179-977E-0858A08567E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FF348-FD45-4A0D-9063-C767755ABED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1EB82-8F84-414A-8C83-4E508B657E3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2948A-3E2B-4701-933D-F769E7B05D4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723F36-4AA3-4676-955F-9AACA010E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F9DA-A9B3-4830-88E0-BEE90695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7EC1E9-1CCE-45C1-BB28-DFF5AFFDCE3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7AE1CF-F370-495A-BA63-BD439D10AD8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379D37-A372-4466-9622-82A7E6A5EFC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B092DF-B0E1-4F59-A7A1-62CA458FC8F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EFD19C-4B85-4D66-AED4-F0C4A5E57A6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918727-75A8-4D6A-A439-B4FC1B9A60B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1B08C6-C9A0-41FF-8B94-5BBD27DFBEC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A41D5C-2D90-4497-8CD9-491C4F2576E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716D5E-138F-4FC1-AC74-440C0B20734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A5A161-32AC-44D1-A36B-16AF3C266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E66C2-04A2-4307-ACD2-C69F714F94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F1B731-ACA2-48E9-8781-83104D2D83C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A3ABA7-F610-4A4A-8916-D71DD684027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F7BE7B-F05B-434E-93F3-454A7106166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859563-5521-443C-A2B0-D094B7DF05C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E2EEE7-7F92-4588-9544-AB641CC0980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D0DDBC-133D-41E7-BF6A-94CDD484109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E495DE-F643-47A0-8934-405D7F11B4E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F8AC95-E70D-47B0-9F8A-28D0722678F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FD310D-C693-4CFB-8C07-DD2AF0B1263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023903-2204-49D5-8713-6501ED63A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7063-65A8-4855-A14A-A0DCF2BDDD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7FCFDE-5F93-47DF-B830-C3A279E8892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06A651-5A00-41AC-A325-97BD8B8ACCA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81A070-C486-4EFB-B16A-B265B2DC625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FAF23-0AF1-4140-AEC2-DF727A7244B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43515-207A-4676-813D-2E490934BA6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78083-D5B9-4C76-8891-40E6633320C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8C9D9-ECFF-4BEE-A0AD-61233E0D986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8E811-BCCA-428A-AB4E-347049D933B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4CAD7-4576-4309-94A9-10519BC6F78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670D6-3A68-43FA-A0D1-9095340444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8F1C-3308-4EC2-9EB1-D8627BB8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DEA7B-389E-43B5-9698-DC7141FAC2A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96B5A-EB6A-40D9-831C-6612010177B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ED66A-B434-400C-8393-A0376CD48EF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61066-05EB-4E2B-8EA2-4E652E2A299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B17F2-E19B-4730-A34F-214D6691AD5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686A5A-3A77-47A4-978D-DC110E41E57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38D88D-99CD-4EBA-A4E4-137DAF6BE1A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702C4B-32A7-4EBD-97F8-7C76DF20288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153B87-9A3A-4DEB-ABC5-38846E81875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54C541-34ED-4BFC-9844-35F704C2A0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E0B-DD94-4318-AD39-ED9F058B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508FD4-149D-4D79-8B6E-B804B96A6BE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23F3AC-C0E7-4546-8270-8B0AF6290ED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93A63F-C0A3-4902-AF21-769E88874CA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44C995-183B-4EFB-9B00-864B92C69ED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AAB32D-7EB6-491D-8D6C-2B7E285F5CF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D5ACB7-A565-4A16-A7F0-384CDFFB43B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342A09-3301-4AF3-97AE-7FCD6C5721C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DAA95E-0B06-4260-A4D9-712AAC04CAD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46DFBA-D79A-4F63-8976-FE6E0D08A12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9E4E45-DCCD-498A-9CDB-A808C82F3C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3D91-280D-40A7-8D9A-95BE3985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EEB2E0-B0AA-4D88-8136-B3F567D1384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2E0DE2-A60C-4E35-9E57-D2CC4FA0E01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75E3CA-7FB9-4D4D-A998-47BC6866D35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47E960-2C8A-4E6E-81C7-642BEF593F8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FBBCE3-2A54-40FC-8D32-39701628317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5C5B37-4AF7-446D-A8D1-E11D69901C5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4FED1E-F3A4-4292-9AA2-05FC1173C0C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AA91B6-BF3C-4ECB-9F6D-6DF144FD92C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3DEB1A-3726-4716-8D81-F099718D6B4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CA511-6BDC-4531-850B-4AFCB58AE9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0BB-FE91-46CC-85D5-55A50917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5FA27-667F-4ECB-A7DE-7062D0B0E81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5B94D-77D1-47CB-BB2A-B563A4CD211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EC0EE-ED76-4820-BAD5-9E3A50CE67B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4C65E-CF7A-4488-8C77-C7AE23DEAB1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82706-3A69-481B-9BA1-89091E069FE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1F93A-3F38-4E0E-9F9F-6DE07FDB4A2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CC176-2EC0-49C2-B25B-084820A5F40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3B2C7-88BE-4F2A-9494-76108808281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EB0B9-D978-424A-975E-CE81B0C7416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F50BC-8296-4F4B-A983-876111412F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283-0407-4EEC-AB66-97F00DBB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4DEDB-C2BF-442B-96A7-24CE83B7569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27E17B-0A82-4F02-9BD6-A26C22FD5DC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04C720-AB46-4B57-8457-E856ABF2806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81CF20-8359-420C-AFA4-0BA20750CC1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FD8C08-632F-45A8-BEC3-6490C61BBEC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EE49D4-D9AE-482E-A4B7-A380396B72F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CE669E-5288-49BC-8823-848BDC2B248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FED41D-7B82-4F88-9E0D-2A75A5E9AA2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E2ED64-63E2-461C-9E64-991D3D7B45D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EF3731-FC20-4AF6-8101-98C18A01CB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22C-F403-4072-9028-A10658DB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DE0B7E-ABDF-4F50-83E7-B8C47EF7BC8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F8F435-A424-41D2-832A-FA592B4F558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CE509E-B638-4C26-8D4C-63E2F6184AE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8693A8-083B-4880-A5B4-5432864BCB8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52A4E8-9707-4B44-A50F-470D715D884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C270B7-B817-4D58-AC37-F199386435D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1025E5-6314-459F-8F73-9AF9FF14C90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9FDF6C-CE43-4BD9-936A-46AABB1930B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11545A-325F-4A11-851B-E7E60168DEE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710331-9C54-4E14-8688-BDC22E823B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E53C-F77C-44DE-B1C6-949E6857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552-8358-4B18-AD71-2C444F72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710DB1-0639-43BD-A5C7-1777A47809E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973F43-4F42-498B-AC8F-21F67835238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51A0E2-1EF2-40EE-8C46-6638B5AB9E9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D56F57-FA16-4397-861F-18EA7D2FF0B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8FA4AB-687F-45DA-9BF3-38B8976DCA9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113B5-FF72-4C98-ABBB-5B8327AB6F4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4BE57-6DED-45A8-A000-32B979475A5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10B31-9AA2-483E-8232-DAE5970C763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60B63-C759-4A78-9C8A-714FEC8AF1B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31FF3-0829-4E4E-AB27-64A33D0A7D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006-D63F-4D23-9523-38D6B841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0CBAD-8166-4502-BE5B-74CFB54E8CF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C735A-AA2B-4B79-85CD-C87C58B17F8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ABD42-6C42-4307-81F8-4AACCB7EC6F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2EBF5-5810-4139-808A-D6A5737AD15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D96BA-880E-4B19-B159-0CF74AB9EC5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05353-BB3A-4FB4-9899-91064F299B2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214A5-DF61-4770-953B-D44ECDC086D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73ED-AB50-421F-BCB1-D140112D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3BCFE9-2556-45CC-85E6-0B8679D976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D485-6B54-4CF7-B7AD-674D0157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7B09B-32EA-4A78-B2FE-977433CEBBB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9B4D3-1A52-405C-8D4B-62B11CB5CF3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69EA9-EA06-4E73-9C83-823DC2C67FE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E5A17-6763-49F1-8A36-0C422A0107D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85C4F-69DB-474A-9336-B71359C318A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89388F-3E17-4D1D-9550-CA032316894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0B83A-A554-46E7-9A08-0C35DE1BD90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AC5CD-2BF8-4AA1-B8E4-80CC4A73ED6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60183F-11AA-453E-BC8F-9D6E8BCA730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13EAC-2B1E-4FC8-A4C9-6411C34277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FB2D-94F8-49CB-BDD4-E22DFB29A4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C83CE-DA87-4104-9834-4FA65D4E1C4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3B0606-1B79-4FE9-B7C0-DC4111EA426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E9F0E0-C65B-4933-8B12-4B847FDFA3F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39F19D-8BEC-4F34-95E7-A6BB16148FC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DCB558-69C0-4EFE-9B4A-6A874F064D3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E2C8CC-0FBB-4B3F-A127-ED003BC95D3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A2F1BE-2AB1-4071-B35B-ABACCD2A159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49ED78-A16F-4445-AABE-8C2C61A2BF2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5DCE01-97A3-4771-B5D6-1F8D60E5A86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B05C85-F806-4A7E-AB3A-6AEA090375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C9361-565C-4817-BF73-4649242010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0FC1A0-DFD9-4B01-B333-92297E3B777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E1C982-D5E1-4D65-8D12-595D02575AC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760FC3-7EC4-40DD-8403-504F4B9A419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32049-0B34-495F-B34B-12A225E7C50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BAD88-4252-490E-9FD1-7E39D9B8250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CEC44-7CE3-4F96-8F87-6C6B7A7BA5F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89CD8-00FB-4B2A-A1E9-101CA7858D7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CEB6E-8B99-4727-823B-ADD2DE1EA5E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63E5F-5A5A-4743-8711-07BD92B2602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E772E-231C-4B0B-B4EE-057C70EA37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B4F73-E741-46EC-9FA4-EE1ABF53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BB062-68EE-4B4D-B59F-E33AAE1B434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6AEA4-BF93-45A5-AD1B-35D1AAFDF5B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4D240-F755-43BA-B1C5-BB94C587884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970DB-7341-4EF8-8445-152E0737826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FFDFB-E60C-46AE-96ED-32BF706BB34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F27914-9D4E-46CB-8CFD-2D8462FBA55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D043FE-09BD-4E12-A3B5-859D39A0B8E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E5EDB-1C0E-449C-B95A-D4011310E05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A5637-E606-46B6-B75D-ECE72895E56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36F00-1393-49CD-9807-19872F7C09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C78E7-6D83-4C48-AD34-1084A64F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4F6A1-C162-4867-8E9A-9172F590AA0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9BEBA-BC89-4643-8C04-9F154B83876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45050E-9A12-49D8-85CC-8B1DF3C003C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1DEF65-8920-4E67-9C3E-E91FDEA0C97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BFB385-2489-4AF1-9C0E-720771B6BCB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A7033-42BB-4689-BF94-917E166AA90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BFD6A-5E91-4216-BF4A-21C96F3EA35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CA8E69-8715-423C-A1F1-79F7B84CC1E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592EE8-C766-4686-B7C9-78B9666C850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4FD2D1-C558-4D44-88BF-88161158D3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80EEE-8D47-49B9-AC4E-6AEDA080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06BFF1-8C1E-445D-A697-B0CE724DA21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D698DD-89A7-4334-BBAB-C6E59B54AA5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9DA6D4-3E44-4484-A553-12A0290651C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A377E7-CD18-4508-9FB0-88F7A049C25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957BDC-B9C7-492B-B1AE-45430ABB416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9A0CAE-296C-4175-BA69-5BAE11CD7D2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3C054A-F34A-4544-9C4B-7FCC9E25DBA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2FCFB5-428E-4BF6-85C8-412E095160B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998420-16A0-4403-AA7E-13B0657205D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7C6B5-A21B-4E7F-B3B9-86FF26A3A0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44845-EFB8-40B5-BD20-911EDA02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D215A-5D24-49C8-A8F0-343222A20BC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A6269-E9F4-4111-8B90-4B72BAEDEF3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E892F-4F23-4D74-BDD0-62DC407A5AF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B591B-3DB5-4089-AED0-97247E25074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D514A-C17A-438D-AE7C-DAE7C7173DA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B3E77-7A04-4C10-A436-0955ED65BB9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7C6BC-76A0-46EF-9FE7-776304A7982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BF7B4-DF53-47EB-B008-39789399CFE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F1825-EC4C-4476-9D68-356630AE3F8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E6790-95F9-4700-BE4B-71C4DE54F6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FD193-4222-457B-B60A-E34D69FF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EF7F0-DDA1-462F-A9F3-5A523E38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7C84B-528E-4738-ACC6-AA21ABCED19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69D506-E67B-41C7-B77B-E8E73354249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A966CF-4D0F-416A-B893-8A5643896D6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75A2EE-3000-4EA8-AA3F-0337E43B667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8D6B07-F56A-441E-9072-6C24CBD88EA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75FCA6-B000-4ADC-A7F7-582D5A32FCB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358922-9173-4DEE-A0D0-6D8216DC7D6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D13949-FF77-4BD4-9939-99E2185C467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2A68F6-E782-43C2-9CB4-CC5C0CEE72A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EE3705-88D2-4892-83C5-43AD534DBA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AFF43-7C55-4FE9-BC96-DC1332EF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A27EB1-0542-4D1F-899A-A1C45DABFBB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E95259-52F2-4BC9-AC93-F46767209B8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7BBF12-CF2E-4374-BA12-16767ABE4CF5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BD3FB1-28FB-4C05-B1C3-694164A0428C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EBE139-FCAC-4DD9-A96C-A732C65DB949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8E2B65-7248-454A-A4CD-4486AC27C6E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4D75E2-802A-4D6A-A410-6B60C48DA3BB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DEEC11-6ABB-482A-B4D7-4467ECC8AE19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2D8E58-6D99-4E9C-8AB5-A8F397F6B3FD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7C83F8-ED78-4182-9490-1012BE159B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E7001-193A-42AB-9E15-E0DD2822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54B495-C517-4CBF-9C0D-A0164A5C908D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0147B6-9822-4BAF-8C18-4491C295AAD3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1A763A-493E-488E-AAC1-F250F3F87D1E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CABD09-C746-4D4D-AE2B-313D99A2C0AA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76D60A-3CC8-41BE-B200-95D200A18BAB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E19E0-AB99-44AA-BFE7-C411062AA099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17B3A-B78E-4E79-8073-BA5E050065E3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655E0-C7D9-4540-8026-964489D5E8D7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6FDDF-6FEE-4890-BBFE-BBF25A30F76F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016AA-1ED5-4CAD-AD1B-4274317F19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D13D8-F5FB-4F55-A39F-0C098D6D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A0DCC-6D66-4F17-801B-3AE6DC4520A4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42B99-D339-40AE-8A6C-F76B4E03AE2E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CE0FC-09F3-444E-9A24-58182D7C038C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6A986-16F2-4402-BE71-57D9AE17AF24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8D600-4E0B-4F30-8F2D-B4EED700D749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8DBC6-F6DA-4ECE-A6C1-67B753C2A3EF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B7823-18BE-4349-A50B-E548F0C6BF91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8B135-B747-4D7A-B367-A11B1FFBAD15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161C5-1B12-4DB3-B3BA-3CEC6465D492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F0CE3-AB37-4D78-B850-E28DDC7DBC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78F14-5034-42F1-9DD8-61CBE007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235EFE-AAFA-426E-8BC5-5221CC9CAE6A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0A50D-4091-4490-903F-2966EE29327F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3B1FF-6C4B-4F70-9AB3-533EFF462EAD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68E28-C770-4DA2-93C1-03DBCC1D60BE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0DB560-B37D-43B3-ABD8-F6AA48DCD6FE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03099-96EB-424C-AA07-0F783F5E0F53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05617B-CD5A-446A-81F7-66CEEF7642D8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D3E9E8-8AA2-427F-93C4-B45232F77573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EC0796-56B9-499B-B078-EABB17C23A12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9380E-9FDA-4B90-A61E-82EA4532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FEFD2-0422-4C8D-9452-D47F333504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B36141-FDF6-4E3D-988D-BE39BA19F15B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4CEA91-CAD2-450C-BBB9-82B48BD87F70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CC56AD-86AC-4FCD-B3FD-B9AA7244EFF4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2B1A7D-48D9-4A38-BA2F-A4525315D24D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8F3AC3-444B-4E91-B9A4-378494CAE392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2639BE-48FE-4239-BDEE-7ECD74E675B3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EDA80A-F72D-4365-BA39-0C4BBE2E3E16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D9094A-2CD8-4BA3-85C4-1D28B789E074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9B87ED-8388-4314-82CE-A2733DA8C5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548DF9-3553-4400-8EFA-9EE59114DC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5B57ED-2AC9-4DD4-8554-8D86AC1AFA20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48EFA5-54AE-476D-B4AC-CA62AEC66740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26919D-E0ED-45A9-A01D-314F80B312AE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89367-D2FF-4087-BA6F-2E7BFA256C29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DE0B2-48FB-4113-A4B3-67846A5EA364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5C600-786A-489E-871C-A6E5984D25C1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D2AE8-EAAF-48E9-8BDD-EFF6C776BB3D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1AF8F-9B5B-46D6-9A05-87592490DB17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A9FAE-6822-4C50-A0C8-FD0498AD03AF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2F1D9-554A-48E4-B58C-DA407AC860B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70A487-7431-48CF-BE33-6D545C2E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D9E5C-B95A-49B0-AFC1-5F107B0C6307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17518-28A8-4A1B-9BDD-FBF482C97EAB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79FC2-040D-40C0-838D-BB1D3A348B23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3C852-DEBF-4559-9BBF-5B9FFEB9C5CC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281F1-88BE-40E4-B36C-7D79EE6E20EF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82BEE0-80DE-40DC-86CA-12FBC8FF0358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ED52D2-070C-4D96-BB89-FCD7C0179E80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2F1C06-92D7-439B-A58A-2E2A2649272F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03920F-A05A-4DB5-8F02-FFFD47342031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E398F7-174D-4896-833A-AC40CAA8FA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072BBF-C9FF-4C99-A53B-E4A2120D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EC1E82-F37A-4373-9132-7A64E8FF075D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1B2106-D31C-4E1B-8363-97D296E46B65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02482B-F7ED-4CC8-B2FE-C5F2F97DB9F8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21D840-D93A-4A54-A77D-6DF1994FFCC0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7C5637-6B7F-4291-A052-4CD2EB3CAD97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25D7AB-F469-449A-9CC3-3C27B003ADF3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4B5E86-4267-4263-8A89-35C424C74762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745B3A-4202-43F5-A640-604AA7D93C70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59E503-0966-453B-AFFD-C8FE05D1231C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671106-A065-4860-8F20-AF744E597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71C6-F0BC-41EE-B693-4E778B20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BFC66B-8EA3-4949-B617-DA2048FD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969583-8F36-4BB3-89B3-A7ECB81E393D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0B1B18-0F29-4569-81EF-C91EC943E606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FBB965-5981-4E33-A73A-1E34EF6DBAD4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444961-F9FE-45A5-9702-5403FA7E96F3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98CEB3-3781-4A8C-971C-B8AD3874B7DA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E5A8BC-8472-49B4-8A77-19C712447B0F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73D820-A333-4E1A-9438-5D54A543AE72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6A2711-AAA2-4144-A47E-D752E93A181F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BB9E36-5C75-4E29-91E7-D60251290645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E7974-C1EB-4E4F-944D-A5E55DC5BA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2D94AA-3A7E-478A-AB1E-66270E56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2551A-3383-4670-88E2-D3575230A061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EF6CC7-E083-4D98-9964-C26BFA8EC5A9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A45A6-4FE9-4AFD-BC4B-0666CBEA7BE0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C6470-0ABE-424A-A4C1-430C06425DA0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1A741-C41E-4DA8-805E-F98F1274A82B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49F8D-24D2-4259-B0F2-D8C9FFAECCED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EBFF6-1777-4CD0-B771-819977198D5F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77FF1-9FBF-4DB2-93EE-A207861B83DF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E70C61-652D-42BF-9773-5AE8455519E4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14257-6AA5-4F0C-AE08-DE903AAF88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D2C2A8-AA3F-4D8B-9FB7-7DEC5F04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CE947-0266-43D4-82D0-95047D1B24C5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03A9170-276B-4ED5-9AD4-54735984C0EA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B4E69D0-DDE5-47A5-822C-6F3CA7F794E4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0970892-0135-4217-914D-7FC6D4FB1E8D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C897466-C55B-4A49-B08F-D56E9EC5666B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AF4F6BE-A602-4DE1-8DF0-2504D7034C1B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DFDF364-29A9-4FEE-972B-E0DF9611C8EB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B1A9181-FB7A-4C76-9B4F-1978553B6403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E922F82-BB91-42A0-A3CA-CD0BADC42A78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E57E81-7BBC-4D6D-9621-6BE075B11F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31FA33-FADA-4848-AF4F-86060503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E11AB6-DB09-4C2B-8D13-41E3B5D9995C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2098B80-669A-4E16-9D58-F24B0F10659D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9A08280-F9C5-4038-8C4B-8D8FC101A3BF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B0FDEC-73BB-4B2B-9FD2-A2E722FCEE2C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FF7960-CF6E-49BF-BB71-582815CC2451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C7CF48-80C8-40DD-9581-D790D277A290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F6D360-D800-4B98-9D11-8BFBD4AA5395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0A5997-F35B-4291-9B16-C7893CF7B565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A222A8-9BD7-4E49-9714-F68B3CD6A6BE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2454F3-79B6-48D2-832D-84E97C4821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D68F07-F863-4573-BB92-9F402932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C253FD-70C6-4617-8163-374BB991B912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1632CF1-F135-4DEF-BFAF-31C574F07204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A954D6-372F-4866-AC04-B53BB0270A23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E062F35-E3B4-497A-ACB5-AF58EB14896D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CAFD375-4CBE-42ED-A42F-4DE9047B4503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70BA89-279E-4D6E-AA95-4BE44C9F0F97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B43C9D-74D9-4091-9E97-6622354672F4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3C6308-527E-41AD-A644-47AC6501872C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86BDD9-178F-465D-8CB5-A90E7684A57C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FBF9BB-408E-4C2A-8C5A-8DBE36135D9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F943D3-7F6C-440E-B5C3-191DB7EC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C0A355-6FC2-4D08-AD22-480A6521F53C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CE5F8B-D168-42EE-9D84-00F19FA7EEDE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5DB21-8A14-428D-B408-B982218786C0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D84487-AD8A-48BC-BB00-AFC6476B5D9C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804ADA-4D46-47A0-9283-6053988C97B1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449D3-3DD0-4C83-9125-609316E7B900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17B7A1-EEEF-459D-8581-0688019BF608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06445D-F08E-45B2-98B5-CECBDF49173D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95D7991-5F60-4B85-9AD0-E9F0D350EE0B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FCDA00A-4DA9-445C-8DB0-0DD03DEBEC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C1B310-373A-40F4-B6A7-49F4DD88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09C2D78-90EA-4E05-B5D0-C3F644A38061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1D0F32E-4380-4E71-9804-88159A4C6426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2336397-6CAD-49E0-8D6C-66E2C7837344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D1BFF65-C1B7-4056-ACD0-EF3C80C5E931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38487EB-B548-4024-B9CE-A085741EE4DB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B75E7DA-2A75-4821-B178-DCE050CD4207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EABA437-D6AF-42FF-93A1-EB26549039C5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9101E09-4D1F-47CB-950F-0A1BCADFE713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1D8FCC3-08FC-459A-BE98-8EB75AA22FB4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B683048-3D8C-4185-A6EB-4E621F4BE9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E75641-77E0-432F-B265-C0A738EE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B009EC-6E21-4E5D-AD7F-7ED2499201AE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F1688C-7D6E-4E1C-A9A4-2BBAAED6C67C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188E50-D3A4-4E42-B1F0-394246A67001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D1015D-4003-4100-8F5E-36F3FE8CF3C9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3ABAD0-E5ED-4803-88A3-D1417794160D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B70DCB-4E00-4D1E-9CAF-4B950A080EC2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1E5174-6976-4337-B3A5-EA5CAF182A66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2FC9A9-3572-49FA-BB6A-5D867DFDEF87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965230-D6F9-4F60-93E0-E49D3A2D4CD5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9F768B-BB90-4AF1-BB2A-5774E2FEDB8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E9FBFB-EE4F-469A-93E9-407AAA9F55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563C5B-D965-4A30-BF19-6690E798ADAF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DADC2-65D8-45C0-96DD-FC09EF7DA6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EC5615-F0F5-441E-9E67-1C004917552F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CDF08D-8EAA-4AB2-824C-97584BE8C2E4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BE632-65A9-4C30-BFB1-14FAFB79FFFC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FE61E0-7099-4D8A-9F4B-0126DF1D22F4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1509B-702E-4B7F-A946-586D1ED0006C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33E0B2-EB80-4AC2-9BF0-38B6FC640738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524FD2-AC9B-461C-ABB9-5A345C46A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F76D-1A7A-472E-A4E3-2420C33F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20692-DBEA-4038-B51E-B0722E40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D95DB9-B497-4F94-B6A9-30FDC1BC77A7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C243BA-E9BC-4B04-A4B7-B0B381CBEBA0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3760DD-E8AD-4BFE-A0CA-241029683642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DA8FC1-8F60-4163-8CD4-CEE54AFE13D1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9962FE-DEE6-4D63-A3B8-FF95C889E732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8A782C5-1220-4428-8B53-D7D0777167D6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88653E5-E162-4F93-966D-F2C198AD36EB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6919FE0-EEAA-4393-9A70-B8ADC018A910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76CC396-4770-48FB-A2F2-4B92828E5E48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C77B2B5-85D2-4C14-9057-9B372E2E549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E0101-28EA-467A-A235-8AD8482C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A3FB93-C0E4-4344-8951-D7DBFF1FF0CA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2706AC1-BBA7-4AC4-ADBA-CFD04AE06746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678C705-9078-4D16-9084-32BEE40BE3E2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EFACBAF-50C7-43DF-BB6F-6959B6A87DAA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7DE2806-F040-4A27-AEDF-93E6AC0E297C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C9D8693-EA84-4196-932C-00A6B2ECEEA3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1689EB5-2A9C-467B-81BB-7196B054AAB9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F5526A1-2F79-438F-96DB-2CCB1EBE207E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D61C55C-C70A-4879-8502-B1BEEB8C513B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1596A7F-D8CF-4569-AE05-0C53D3E1C11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81FBE-3010-4DB6-801A-D51AD41F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161FCE2-CE69-4B0A-86D9-0D95FE475B97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CDA457C-B28D-42F2-8319-B89631C4CCC9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A1FEC3-3F95-4D5B-83A8-4E00E7BE70F3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46AFAC-E446-4C41-BD1B-657CA5087FB5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52E0F55-0CA0-4541-9142-9ABC07213C81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EC92AD0-20E9-433D-ABDA-43D20AB340DC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DD67592-62D5-459C-AD74-137EFCF248F3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7867E5E-E819-475E-A344-6E65EAEB400C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762806E-D818-44B7-8DD7-6FB166B95002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2515B9-8B1F-467C-9092-279875E5615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080FF-1986-4B3D-9909-E8E3F3B8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6BECD7-4E49-41F1-B1C6-3FD73C1A1009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F5EC8-A58D-478B-82B6-96DEFD12643B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83EE1D-42FF-40F7-A741-0B8AD10E8910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8C9267-E03D-47BE-8747-AE1A1AED9D60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F57CBF-1FC3-48BA-9896-A4FB9F405C02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D0C9E4-94AA-47FC-8271-67B17FC886A3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43C3F9-E28C-40CF-A7EE-CE27CFFB9772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797118-4AE4-4216-8FC8-5BE62CAA5F77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232D56-3D6E-49E0-978E-A5844F3B51ED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87369B-7DC6-47DD-89EF-0771954FADE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1C943-53DD-4894-815A-DDD412AC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7B14B5-57BA-478F-9284-4C6ABAAE0D16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623CB5B-03D3-4EFC-9A4D-67E7B122BCBA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F7D919F-8C41-4251-9CF8-BB0A47A2AF98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277E89F-3C9C-46C2-9229-02DF6D5C5601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FD27650-CA1A-49FB-9BD3-0BFE62EAB69E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9536D29-6EC4-49BF-8E78-7DB5438360DD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A60D0F7-435D-4656-8529-A000FB1C6E25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E8FDDFD-79DE-44DF-B3C7-35239D6FE371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9D61D7A-8782-4E35-A2CC-900598B076AB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20744AC-AEB7-43EE-9F0A-F3DA84CFE6A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1B080-DADF-42E9-A5DC-B1078023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ECFDE79-F35E-4080-8152-48A50653252B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D3725A6-548D-485C-AE9C-135E3BCCEE18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4C01B5A-70C5-49E6-B783-2B65F7F915BB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5E48407-6571-4622-869C-2103CE86A5ED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A5AFAC-C154-4881-AADA-7838F8644E6F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6CD63B8-85D6-4202-9D68-859219146EF4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676BA7D-3459-47B4-A8AA-EEF3FECD22FD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91CF2D9-3EAC-48E6-A29D-B85BF6280A45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AA70F6B-252F-4B18-8BA2-71CFB0D80940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7F4A5AB-856E-40B9-A7E1-1461BC8A9A7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74B7E-5FA3-4D76-BABA-03E53EA2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BFE613-8F89-4DDB-9A56-CD8B301A87B3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6897D7C-235A-4C34-A944-0CF0BD1274CC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0EAA2BF-BD73-48F1-B917-5A1487FA7D4E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F0F2E3-8CDA-440E-8286-03B5F1BCFD0D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AAD133-A8E7-4693-8709-8A9EA6DC94E6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351008-C001-41F9-829F-0035E5040124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C8585A-2319-4DCE-B46C-80C9671492A0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596B2D-38D6-486D-87FE-26A26125BBF9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DE529D-AF5B-4728-A9C7-D7230875F4A4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C0E027-9811-4292-8EBE-A944AB32881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F43CF-0DD6-4BDD-841B-B84D9BCA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5FC895-F242-4F62-9579-13B72D14A0D3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A6ECDC-1FD8-4D0C-A5F0-2B3314C52895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7B6FCB-C32B-479B-B128-799CB3E9287A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26EB15-23F3-43E6-87C9-9CDDD75AA5B1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177C81-FA72-4B54-B699-B7EB489C504C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40BF22-F6A7-4A40-B97D-254616A81F64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42DE0E-C9E0-4CE1-A8E2-656E87DD6145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9FA7E4E-2711-4F29-B8B7-9348913BF228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736D664-AD84-46DB-862F-BB70D4EE7CC8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BDDCD6D-D148-474A-9221-CC50B92B5F2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FF665-6C6C-4841-B89F-D0153846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C351DB4-99F3-4A7F-8D36-1A521632502A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29BA6F5-C311-4261-BFA4-1580F8C0C74F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7485F9B-84BB-4974-A969-0613F394F3D3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9E35568-7DB3-4462-9756-9E1FF9FE9901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145E76B-1CE3-4C2A-9C53-83AA00DF988C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C12CCA2-8BCB-4EAB-B6A7-4167410B6C78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15648D0-FFFE-4A75-BE76-372F592BBBF3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EA7C022-1300-43C6-AEAD-D4963A01DBC0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247582-A0E3-4584-861D-BD34657C76D2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167A202-0910-415F-91DC-63CD7F3D895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A1DE2-7F79-4A1C-8235-2F5C1888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19498F4-88F9-4182-8BD2-593F4E181AD5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898919B-1F02-4943-B197-05892CF9ADD9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40ED76E-265E-4E82-AF21-EDFFF6580E8E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461C7D7-A96E-4969-BB8D-BE29DE69ED78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51F4EED-9987-4DFA-8F69-8FF60EDE801D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29AF694-BCB5-4D42-B26B-A02749A2E843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36719F7-314A-4667-A4A1-CD6CA9AAE858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E2EAE9C-3FD5-43D4-9F2C-118A54883A14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4B70E3A-DA0F-487E-9873-3D59F7693FE0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E85F50F-3818-4075-90F9-779615D3D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45B9-01CE-45E5-92B0-24D86AD4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02E1E-564F-45F4-8A5C-F055CAC074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01FEDB8-1812-4B4F-8FC6-AB0CF9CD52B5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20F290-0523-4F5F-8016-2649A28FE178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FBF252-9DAC-4AD7-BC95-7E9258E83C76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020BFB-B238-4C24-8E07-142941711F55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26D3D6-ABA0-4EB4-A45E-CED52E0B2CED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2C863F-BCB5-488F-80C9-F986ACB4A946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0B4A70-6DB1-4268-A524-63248F2D8527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8D344F-3A5D-4DA1-9460-237BA5E70FD3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A075F6-C81F-4A6E-91DA-20D45ED33239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85474D-60C0-4CB7-9B5B-3A107AE94EF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2DC4EB-7711-4093-A7D0-5AA2C11522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B090F2-558C-4239-AFBC-3AD04EA6F834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634F73-F894-402A-9356-81BC1211C765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6DC48D-28F3-4D99-B0C0-7E94772368FB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7E5E1C-9E81-45D0-8B14-3DC18616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307EB9C-3C8F-411F-8259-9DDCB39B4385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0EBF9C7-10B7-4E9A-8E71-D0BC7E7F162E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C74C684-62D7-4A6B-89EB-5FC31102CC4D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F6AA6EA-DEA9-4C3C-BCC5-2C7F440F9792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17E9493-AC8E-41DE-B047-08B0D76AE21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3CC182-A47A-4EB7-B337-A4C9E455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B173CDE-3B71-4F41-9CB3-2D0E894E499B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90A7A6A-EF11-47F9-B510-5FB829629800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EB4EF96-59F4-494C-97F3-1AF9FC3D0DB1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15C7A39-2E39-49F1-80A9-E6CFEF5B1A3D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12786A5-6FE1-452F-9D07-B0116872220F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471E764-D957-4332-9A13-5E1BF66C8145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197B9D7-AE46-4F41-82B8-0D0CF47E621E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6F356F6-FBF6-4E1C-9B10-70C2A270198A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3639AAC-CCE5-48B1-BC59-2B20829FBD63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C8C9405-58F8-435B-B8D4-CBA5C44C443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62BB1D-115E-44DE-B47F-7921A287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01AD500-914E-4D6E-A7D3-EF9750E238D2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FBD82D0-BFFC-4C38-81C0-0C656C7ADC72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DB44548-3204-4590-A112-FDE43AF910BC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2720BDA-1F63-446B-9045-0C2D281948F7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75C24B1-627F-4C54-B175-41B0312B88FE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CA21911-C46F-42C5-81E5-61D4BC5EBEA0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5FAB5A8-178D-482A-AA08-E0DBE5938F9A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163354-620E-43B2-82EF-3C141C8F21FF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7119E73-19F4-482B-831D-31AE7E5DBA83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A0218B-A95A-4179-855B-1D5C1700FE8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0D3642-0441-4086-9E87-44E77407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051FAC-7CFF-44E7-BF53-28C68877713F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03B569-84F4-4789-B00D-82812C7370B4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18E6D8-5CA5-4D1A-BAAA-C84F88FE632E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D5939A-B7E5-40F0-A217-585DF7BD3D93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D1614A-5E48-4A9E-9758-783AFAAB8481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40FD38-C2E1-4B19-B3DF-F9B12117470A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4C958F-430B-4F8B-A484-26A91A6B21E6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03FF8B-D76E-4E02-8048-DA25A74793B6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9B91DA-2437-4D83-A626-DC3E71F4A561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AF6A50-9C19-4BD7-A7B1-A3CB6642804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C1C7D7-6480-4766-A5CD-BE81B496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387D90-6CF7-4AFC-BE1D-BB39151F543A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349C01F-B716-406B-A10E-6661F7EBE167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0B51822-26A3-424A-A981-7AFF16178B39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CAFABEB-F4C6-4F53-B43F-73FBDD2EB67B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5D13E5A-DF86-44A6-87B1-CD9AEA4336C5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D065F77-856B-4C44-9940-4D2BD7CADE5E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5AFEE76-1E3F-48A8-9950-0489D728C9FA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02E86D6-9AB9-4E0E-AF87-18429714038F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6A5CA2A-89E8-47E4-B1FB-8703130A9212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EC08560-911E-4FD9-A771-29F012881B0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3E62A9-80D0-4A09-8AE3-369542D8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591A99F-E50F-4B6D-A4AF-028A88345E61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079038F-487E-4ADE-9AC5-694AE3595769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EC2CB9D-4C2E-4DBF-9786-A538ACA8E412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E2A430A-3704-4203-ABCD-68A1C2042D41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3466193-F48A-45F4-A1CB-DE677CEBD5C2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1A02569-EE2E-4D5E-8AA4-89F25C23513F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7D35BBE-E43F-4805-ADE6-5E7ADC02F62E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08A6F04-4507-4C43-BEC3-5E375A4D649B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5F38CAC-6A81-4ECB-B83A-C970384413D4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4856C3C-0271-410C-BF58-87AFA936B21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386F39-4743-4A81-989A-D5536570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F797CE4-6194-4F8D-9001-517A4D9DDE7B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2106140-B256-4650-B3DA-DD71DFCA34A0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125DC09-A973-4B4C-871E-B5C5C2BB44ED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2071AFF-0CDC-4591-BA08-5D8ABC8B5F01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DD181E7-9323-49E8-9017-AE8897A2BA54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518324-5222-4DE3-ABBD-91ADA5C88C34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A9BE1F-3CE8-4514-96B6-F2B544255B0C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EAEF09-D17D-4B9D-B40B-D93DC434EBD2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C4A7AF-A194-49D6-A903-908A63198C11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BE7A6F-08BB-4C0D-A68A-BF05B40E1AE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8C5166-2B19-4586-9A7B-092C053C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9672C5-AE1C-4AE6-BBEA-C180D8227348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A3B88A-5499-413D-B8A8-6CFDA8C7AF8A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C5B45F-3705-4ECF-9C79-84ECD506741C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B81636-FF33-40AA-9EC8-C412410BFC94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03DE70-4D59-4F30-861A-FEA200937467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C5392C-6208-42F3-B525-73F548AE58E1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4BFB66-1498-412A-8323-E31EC4A60F55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DBDAC35-B2A8-4CF1-98A6-86451B9E231D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D4B84D3-E937-418D-A750-C60C110C5996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8803D68-B775-4CCB-BEA8-33748C7E6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6FC8-72F5-4BDA-9F02-B63156F4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CBCC3C-95DA-4E8E-A70D-AEAA5498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F6CA6B3-F88B-43A0-AFCB-90BE0637012D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B89BF62-F19F-482F-A094-AE252289FDC7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1B46DE1-7D70-464C-A05C-F8DE6D8EC26E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0322A82-4C9B-4F80-99C4-E5EA66EA5EE4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940D877-2C2E-4AF6-B9CF-715B380A20C4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0A66CB2-6370-40E2-B3E6-7B7E611B0ABE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00993E1-64C9-4D56-A47C-219789542455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4BA29EB-E690-4868-9AC2-C6BBA78439DC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B6E930A-8298-4BE5-B525-9EEEB07D7D0B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2D1FDEB-208E-4C06-B2B3-BFD7723593F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11CE3C-DEF1-4979-86C8-0146CDA6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6B07A42-9A40-4ECB-969C-7F13BDC75AFC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DFC440F-0E49-44E5-BD0B-490ED8BDA8CA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29099C0-CE87-41C1-941C-99F71469186C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5EAAEC1-3A42-48C1-ADE4-576AE4F44343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FC1DD91-A264-4EDA-88DC-0EFFDE39F4E4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E0340C3-F10B-477C-86FD-A35CD107B72C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E044963-652E-4044-B2E9-CA61A99CFC39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A26DA0C-3C18-4D82-B366-29E11F2C6F77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4C0018E-035B-4A92-BEED-22E14AEEB44A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76EE077-93CD-4F6C-B3DC-F6757CF7C45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8DE586-ADA5-49EB-834A-A629BCF07E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982ECE0-AA05-48C5-A29F-172499FFA2A9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75DAAD-D71E-4FA8-8AC6-120FF4B5EA52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7EDFFC-6443-4D98-B52C-E2F389679985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771106-A6A6-4CD4-A202-600DE94C2C8C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B02E7B-B439-4101-B405-FBC683069057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B10CAB-C7E2-47B4-A8D9-4B2DADB865A3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3F95A4-2667-43A8-9414-FB4AFBAF3356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E8446B-5406-4ADA-B44E-7F683BF784FF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D6F977-14C2-40DB-8355-B92DEC9712CD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09C03A-BB25-41E1-A563-E094240C462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040290-7E87-42A3-B7E0-0E304B5239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C8886F-CB64-477A-8D32-442B2B42FA3B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436168-955B-482F-86CE-ECC7B46EB005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562889-3CCF-4D96-838E-29A5C8E425A7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448CFFE-934C-433E-AA34-402E21A70B07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6153780-6373-41B3-9246-F1E851092645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4B1A4B3-A665-4193-BEC1-8FA22F969255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5D083CC-F99C-4DF8-BC66-E3304A7D7706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52BF178-32BE-4199-9A35-E3D4888A3BE6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C5E9792-BEE1-44D2-9EDA-39C53D2BB047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87FC61D-5029-4C4E-B4AA-98F158D5745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84590C-7201-4FC0-B328-00C4EBC8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77AF1D0-C6BB-4659-B9ED-83EC86E2409E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0567F3A-C1E7-42F0-888C-E58AF1E5431B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6BFBD0A-AED3-48C7-B40D-CADB49049F63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A84BE65-CFDE-4B17-BAD7-6C037A769029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EAAD67D-6CD4-4E06-940E-66C017154EFA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FF6499-06F6-492D-9D89-0BD018E2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7EAACC4-B5E2-426B-AEA0-E25FFB773D70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E6C112B-AE4E-4A0E-B642-3596C509FFA1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691C508-2D44-4BF9-B308-94BAFB7A8DC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C02D12-611C-4AAB-A37C-1775DA1A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C9D1C2D-B9C1-4A9F-BC5E-1D7F440B6E6C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4719EF7-1F43-42F8-8BE5-118D19E6E95A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E85364E-BF92-4F6E-A6FF-93CBAF6DD9D0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93F88F5-4ABA-47D6-AD14-EE6B9949D829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BDAFC49-7470-4E37-AB98-0085BB14D8E6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22A6E4B-6BDD-4E29-A367-F6F0F27FC809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0E39CB0-E4B7-427E-8704-25E614628612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4EA793A-FFA3-4016-8F27-89B0A5D65189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46CED53-8238-4EF3-8CE7-B90421FC6F37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098E4A-8B49-42F3-810D-2F50880996E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4B2917-DAF2-4CF4-A6A4-DA92EACC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BC4D0D-9285-4910-9263-7FEBE9EAAAE4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A6756D-BDAF-4B5C-926F-0861A0109502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E9047A-A0F5-430C-9E0E-2D3FBE8BEA14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742CB6-B80A-4E7B-938C-0884EE9E25AF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E383D0-4BA3-4861-B62E-65E27E2E48F6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DE1091-5C25-4E6F-A466-EFFF11A32759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847063-959F-4DAE-A83F-025029E0E2A4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3A5E4E-F863-4532-BEB5-F72F5EE98920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B3BDB8-33F9-48F4-9071-B242B9ADF683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218A91-8C05-435A-87B3-2A07562E6A4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486192-6C1C-4167-BE60-DB41D761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9E5D9E-D4F5-4E54-B031-19DEA5BB80FB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14D659F-759C-4957-B1E2-AEE7FE93CBF6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3D48BAE-5FBD-412B-AE14-7A9C212B4546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DB53F64-721A-4448-9CE2-C726EA702825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21D8833-BFE1-4F00-A802-2D2F369D7C2F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9757B3C-CAFA-460A-953C-1131C8DE266D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E51CDF2-C501-4C9C-A5E0-F888E7967578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AF1D14B-5F5E-47D7-B29F-0A72BF0A7889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35B59A2-0BC1-45E6-8D7C-21FBFD89129B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E590B7C-C8B2-4342-84F7-15E640D09DD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2E4C98-595B-48B5-9C11-602F716C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D63DC07-5465-4863-8C1E-E13F9076B9C1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CDF1A17-B0EB-4679-8767-80B75EB9E32D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0BB205D-8D1B-48D5-8918-AF392361F6A0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43D9C53-C9A5-48A4-99C0-B33C612FB562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0BF3CED-2C39-49B0-A051-1697DB6D2DE3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2643EF6-ED81-43FB-852C-F7488B3E1AEC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2C4B5FA-A6DA-43E2-9CC0-1D832A3465DE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84B5D71-20E9-4482-BC9F-9D4B31C08EAF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EE61F08-FE4F-4B67-A95D-44EBA8CEC872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D17D85E-D8AE-4244-85CF-DFC4324B3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5DD69-2C05-4735-A296-7FFCFBE4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6938BA-1F65-4CE6-8A3B-937652EC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E903CD7-F220-4B33-982C-D7E8CB47CE37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1E446D2-7390-4698-9321-30FC2F5806A7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62131A8-1C54-4D27-89AB-E5978B13A512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726FE5C-FFE9-49C2-B3CF-DCA2ACDF3D7D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F82ED97-6A04-4C9F-A086-AF2DF2932BA7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6EA12F-DB95-431F-8CE1-60C772D6001A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DF9567-9E4B-4F3B-8E83-67CC4F07B1CB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4D8648-6E21-4480-9D7B-B0E1B535772F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104CBF-004F-47B7-972E-A2D7D107D461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AC3A9D-3C0F-4EAB-9ADB-B386150643E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292112-B472-4353-85BC-E363785B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B3DE82-D9A0-4B8D-837A-4E5F2C11C115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B45E17-7CEF-480E-BFC8-6FA9C8BB664A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A1920E-22B5-4238-B9DE-6E8952521A18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A39BD0-0C79-4FEF-9FE1-A92D2D7E458B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AAB1C6-629B-4B2A-9CF0-635655B299D4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A45327-34D2-415C-A82A-2A2981A23C79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789697-EAA3-456E-BEA2-B173E4F9A574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6ACBA0F-EB8A-44E2-A7B6-BD6F0A3DD45D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6A8F2CE-99FC-4B59-B0D1-0FF0AC07B2F4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2F9F75B-F16E-45A2-A043-D3BF74236EA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2E59F9-36A4-482B-B096-B03629B4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70D1A3D-8C35-4D20-8927-B052F5BD9687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D2889E7-A9EC-44F8-A49B-0964F98C2268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13DD784-BD21-4479-8267-5C16F77513C0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45FD69D-7FDB-4799-9E1A-A14833B90F3D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C4DEE89-476E-40D7-BDBC-198519057ADE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C4EF535-32EF-41A8-B243-72621CB194CB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2A40C4F-CD1A-4558-AA8E-3038B28BE10D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56CD4B9-9DD9-49C2-8BAA-3D12A800FEE3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FD19B27-8C8F-4F7B-903C-9A4F3883D726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CEB8EAC-F043-49D6-8FC2-75FB8C557C0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E30047-767E-42ED-9AF6-53668FAE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6747208-9E16-49B6-B908-751D2F30C964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F0684C6-F27E-4BCB-B64A-872259603158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AEEB8D5-ABA4-4668-AA9E-7A62215C1D8E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446422D-AFAF-42E4-B330-6EF3078AAF97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97CA968-B6AA-4F41-8552-E71D780942E3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BF62EC6-E408-407F-B02A-D884D72A4FFB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9A71015-CA24-4120-9C8D-9B0F4E944AF9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8D067BC-4F69-4D89-B57F-B54B5A0F058A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E7DE096-0F2D-4590-B44C-6B6FE7611270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B6473FE-8CE7-4ADC-8E5C-49D61174927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FC7E0C-9189-4E07-898F-0CBCFFDD91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48712A1-21BA-44E4-9AF8-8AA248466F09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8A0535-B99C-4764-B2D8-F81A51143E51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F8366B-F65F-43F5-95E8-5761E6356E39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7977DC-A6A1-4650-890C-6BC3EA1C05C6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1AF802-CB7B-4380-8684-DC020C91E8E9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5CD056-E8A4-4431-BC61-1371B49BEC1F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1B4A1D-1773-412A-B0FC-0FA6FE40C06F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A1393F-1D16-4F51-B933-01A0CA7D02CE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04DA9B-C5D6-4A56-A2FA-357621174756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CA2B07-485F-4061-A9C7-EB503E94D47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6485E6-3825-49C2-82C0-CF37A1D3D658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EEA5DB-E6E7-4FEC-A50A-C845DD692207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E0A37E-B238-4213-869D-4BA54BDF00BB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16ADCA2-BBCF-430B-BD0F-C1A282CDB128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F1DFC80-5F73-4821-A86B-6078D69985DC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41D6BA4-9CD7-4B12-A2A8-8BA9E664736A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70038BB-D64F-440F-8C5E-6E1EA7756F22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7A29091-D42B-46C7-ADAB-61C13E80C878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BE83C1F-30D6-4D2E-A1F1-1BC840D79EB1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B227D8B-8771-4CEE-8475-DCA31B26B32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BF2DE96-211F-4CCD-9061-561C0C5CE0E6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C4E995D-40F6-4ECB-9D8E-8289F241835A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0787AEF-7DA5-4E0E-91BA-C7CA58D0A07B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01A037A-4894-4CA4-AACA-0FA63B63DF4D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A7C05E7-1974-4552-9B95-18A49638225A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E5E3FA8-187D-4B23-ACA1-172E80BBBA99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8494C9D-0D92-4F20-BB76-BF9EFD896C56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C2CCF64-172C-4235-960A-1F0A10AAEA0D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3A19AF8-F421-4E9E-A9FF-1FE79C7D7DB0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393C939-3961-4D9F-AC58-FF6CCA84406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BBE9C62-B8C8-4AC4-AA60-416793D50B15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A8DD779-0619-47A4-9971-A5BE0B5FE370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D174C0D-6515-41C5-97BC-F52DE1AA4C83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A153AD1-EE70-43EF-AB4F-749579C7B347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08FACFE-BAFD-4FF8-97E2-85534F4CFA2E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2E7EF2C-043D-4562-9238-CFEEF8A03BBC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72CA86C-AE07-49D6-A962-CB2AAA0C9285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55B0C2-323A-401A-B829-70289206CDB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25C67D-6E26-4973-8486-8C6E94268048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7138EE-035B-4C8A-8F08-67A133796231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2B5498-D082-47AE-BC07-C44152D46F4E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1F3A37-8980-4CDA-BB2F-1F4B5E2698B8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2DDF88-52D4-4540-8396-E700A725A28A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5E7931-4F47-463E-8B79-1B38284FAFEE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08D2E9-C269-4FC9-A6C1-9FDB6F8FC6B3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094484-4143-412D-B4E3-2E5AB9B21930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F0D735-94FD-4CD5-94DD-79FF1FB1A6BE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D1A8AA-54A9-4429-B174-FB71333B8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8017-E88C-4B5C-BD1A-A56566F5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C918F3-4F95-4043-B2DE-E86DC10F34FD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01A64F2-7BB7-4E2A-909B-24AE1DC79DA5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758E19A-D91D-48C5-82CE-8B465AADC27A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1E05A09-EA2F-4F08-BA00-F1F1C1EC8CE3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755DB46-44FA-4256-8722-D8DC33C9CBF3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FCB124D-8B89-419F-B32A-85BDA17A024C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387D85B-EA6E-4F5A-A4EF-EA008E3BF600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843B510-400E-4F18-A880-0606BA0D8B72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A937012-7CFA-4713-90D2-9D03133DC36E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D291755-7D56-48E6-AC89-5339B8E785D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BD1E4F1-4300-416C-B330-77DC719480BD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51949C3-6958-42F0-BBE2-18F50B2ABD1F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F3A43FD-220F-4674-AF6F-99D05EA380FC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08AB448-A446-4254-B79D-FC568968FB94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2BA945F-EB58-41F4-962F-63F0E8F2E60C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C88BD96-E679-4415-B431-E9C329B585B7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2AD07FE-A35E-49FF-B6E5-94FE3646F433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C155708-FAB9-4A47-B3D4-E3ECC02DF13D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9B1094D-7718-49EF-8C25-8CC78B62EB5A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0BFBCDD-BF5A-4A5A-A690-32E2BEE55AA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E14B022-F637-4B30-BD13-C4508EE331F3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8384C8A-4674-46B0-B51B-90CB4004077E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3005FA1-C3DB-4B6C-A661-18F8357DDE83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04395D1-CE5C-4229-B24F-78C581A6E5B4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D001CAF-D9ED-42F8-96E6-86AE2AAB248D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AA91A0-9A3C-4B3B-B328-A92113B5F3FA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0BDA31-7A93-4482-9694-29B07FCC1CCF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FA4F79-E81C-4070-9B7B-4070F55B631A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D383FB-B27B-498A-B95A-BF0B271A6EA1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4FD49F-1931-4025-85FF-B8B30A5332A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5EA306-9BAE-4182-9920-4E5AE28E81F7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078BA4-656E-494C-BD33-6CF0C6616DDA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681243-FF06-4EB1-AC37-65D9C4B2DB2E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EDF519-51C4-4840-B1FE-7D14A26E039A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90B818-421F-497F-8FFD-6DBD90FA4988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2C8E2B-F2BF-4509-8328-BD0F494229FC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18F1CD-AFD5-42AC-BD9E-398C01910C08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7867D49-5641-4593-A14A-60C0993E24EB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46DB5A7-7A0E-44B6-809D-07B170A54B28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FC7C2D9-46AC-490F-8547-BE9161B8F3F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18EB533-A086-4D7E-AE88-03340E24D9AD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4965141-51C5-4173-AF26-6AC85A32A326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BAA4B21-8A2F-461E-9F2D-7057B5E85FD6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F9743CF-F44B-42B4-9A2F-117E5630AE8A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396893F-0A8A-4487-B774-43F58F0358C8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BE6EB5B-1F05-41CF-A0C8-DEC6C7847407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30BDA1C-337D-45C7-8EAF-F6F680BFDA79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D2E9890-BC75-4427-B805-7E6C70AE9C0E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B1E3242-E6E4-454E-93BC-8FC1658D5F3D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75F0218-7A4E-4174-967E-6A75D2A8873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4B13DEF-4F50-46C0-B292-67ABD14E5FBD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0FA432B-5DD7-44AB-AA20-B9C07E18E4F6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A41A380-1100-456C-9B76-95E223F9FFD4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97661EA-B7E9-407F-88C8-9EC48C59922F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F9C9013-259F-46B5-A1E4-59AA3AC89D82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9F0370B-6CFD-4316-9BC1-1967C0EB5A7B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1149D02-D384-4880-B99D-80FA3A38C366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1027D5A-7997-44A5-A5DA-0F4AF7D1B336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2B521F8-D317-4D25-9A5D-5E38389F2EF4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021AE04-9277-47A0-85E2-85CBDA82A1F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4B324E2-50A4-4B88-B6C0-275B1FFFEFDA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5AF30B-BD69-40FC-9759-0A27480AB5EE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CE2491-1336-43BA-BC1B-177CF5D55E02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94EBF0-CD47-4C7A-8C50-3236B67BE4C3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215E37-64C3-444D-AD9F-DEAE80ACB437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8F2A8C-5F01-4250-B663-B3BE53278AE6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884E51-8FA8-4060-B1C8-E535F37CADED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0A290A-8BE6-4D64-BB31-6D99ABC25311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FF834D-AADB-4E15-90C6-34E9C17E6B0F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3F98EC-9371-414A-885D-94DBA524821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1BC5A-4F97-40F1-9587-83F11C8270DA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15A4D2-BDF8-4557-A068-569B7E944DC9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83A845-F088-4E93-AC94-C753E4DB1358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E6C551-E6F3-4996-9DCE-A2C4A88F8407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7B72255-1B21-4828-A200-A2DAA7C9DB9D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A686042-C904-45BD-B820-7B96D49E58E6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17E750B-B202-4E69-8EA4-86EC88F5AB85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1B7D9CB-4E0F-4944-BD41-548B3A0AAD55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5743368-77B4-40D9-AE1C-6FD5F883E391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777E1F7-EE1F-4AE8-904F-ECEFB16CB6E0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F70CF7D-B630-44C2-B51E-39CB42A0D91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41612-EB55-4E3E-B6EE-9967D025E925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B9F8F0A-9983-454E-9D74-BC4639026CF2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7EBD9C8-03EB-489E-8037-1FDA903D5F26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DDF20C7-E663-4833-8229-463241636AE7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E26CD87-5D57-4746-8111-A6099D09B8F6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765A3F5-14B4-407D-B689-3214C26F5162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B1A0E5D-97C7-4157-BB2C-65DA6D409C72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0AA2EA2-4982-411D-BB0F-69B250F80107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C76FC10-0597-484D-9097-27EF5CEA0F70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0F540F1-340D-4C76-83B3-965655125C41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33E90EE-9B01-4997-ADFC-7535A0F0B32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452C7-4A00-4E8A-AAD2-E4F3CCEEF0DD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60498A9-DAB2-4F71-AF4F-BCEA0D800FD8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0C5626D-E8E5-45B5-873B-EB7D751EA5C1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333F6FF-2EAF-4A5B-8FBF-E348D8B7EBD5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4C2CC1D-A27D-4699-AF98-BC61F6578332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00FB14B-44A2-457F-B35C-331957074444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DCF5AEC-AD52-42F7-BFA1-145A9D81A5ED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B168C65-3009-4E97-A604-E1A4D77324BE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FE67D6-D12F-4B93-B845-900520B01EE6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74F90D-AE4C-454D-AE5A-FF399015CAD3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1B7936-A951-4E98-B496-060C0D3C1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61.xml"/><Relationship Id="rId5" Type="http://schemas.openxmlformats.org/officeDocument/2006/relationships/slideLayout" Target="../slideLayouts/slideLayout962.xml"/><Relationship Id="rId6" Type="http://schemas.openxmlformats.org/officeDocument/2006/relationships/slideLayout" Target="../slideLayouts/slideLayout963.xml"/><Relationship Id="rId7" Type="http://schemas.openxmlformats.org/officeDocument/2006/relationships/slideLayout" Target="../slideLayouts/slideLayout964.xml"/><Relationship Id="rId8" Type="http://schemas.openxmlformats.org/officeDocument/2006/relationships/slideLayout" Target="../slideLayouts/slideLayout965.xml"/><Relationship Id="rId9" Type="http://schemas.openxmlformats.org/officeDocument/2006/relationships/slideLayout" Target="../slideLayouts/slideLayout966.xml"/><Relationship Id="rId10" Type="http://schemas.openxmlformats.org/officeDocument/2006/relationships/slideLayout" Target="../slideLayouts/slideLayout967.xml"/><Relationship Id="rId11" Type="http://schemas.openxmlformats.org/officeDocument/2006/relationships/slideLayout" Target="../slideLayouts/slideLayout968.xml"/><Relationship Id="rId12" Type="http://schemas.openxmlformats.org/officeDocument/2006/relationships/slideLayout" Target="../slideLayouts/slideLayout969.xml"/><Relationship Id="rId13" Type="http://schemas.openxmlformats.org/officeDocument/2006/relationships/slideLayout" Target="../slideLayouts/slideLayout970.xml"/><Relationship Id="rId14" Type="http://schemas.openxmlformats.org/officeDocument/2006/relationships/slideLayout" Target="../slideLayouts/slideLayout971.xml"/><Relationship Id="rId15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5E55-293E-4035-9850-CAC931A546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99B6-D7EB-4D9C-B320-D6D0E6297B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68CC-6182-4C44-AEFC-BADFC4BC628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87BA-FD10-4505-BCB4-7031E742387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9741-0E78-4B7B-AC90-2BFB077BB9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9323-E2EB-4025-9CA1-40B9A883DD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0A0A-CE66-4121-B684-69DDA2E157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01A7-A645-4FE7-8F4F-C14EC1F5114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75F3-7FBE-447A-9CE3-52FD74AAD4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2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E0C3-9B37-4B2E-B6AB-DFCFB59CEF9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15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17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818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1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22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823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826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828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829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834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3F59-2F0E-4909-8095-30CA8798E4F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78B1-C85C-4CEA-87EA-8611A011613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2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CC46-968A-49C4-860A-4C2A0579DBD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6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sldNum" idx="2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8EE7-12E6-47CC-8EAC-08CBABEB5A3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2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B1EB-9B1C-4592-AF71-1312D75E313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Num" idx="2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4756-3C75-47B7-8F92-9A22E210D51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sldNum" idx="3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EAF6-66D9-4F2D-87A4-3470BA65933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3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8D95-E71B-4D1A-8104-567BDDA2CDD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3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7B13-D109-4926-A6BF-0C554DD7AD8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sldNum" idx="3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2422-3AA6-4DD2-B43C-83AF3EDABA2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3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A444-2DCB-4F05-9054-3593AA2635B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0F16-5FB0-4B52-9407-3AB97AA6487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314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316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317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18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19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20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321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322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3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324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325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328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3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3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ED59-BA5D-4BC0-8160-91CFA73D1C6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3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0F13-7B2C-4F87-B071-D20CF59559A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Num" idx="3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99B7-36B7-41B6-825E-785694100FD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sldNum" idx="3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E9F3-86B3-4F62-8732-58D2A3B7F9C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3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9581-740D-497F-9C74-F5FDD119B54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sldNum" idx="4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FB6D-6BA9-47B3-87C8-80B65CEBFF3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6AF5-E2C2-4897-AC2C-4F40276F3C5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4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C262-9211-4A8B-9A6E-1F6A9CC12E4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D098-A358-42CC-A07B-B582FEBA7D3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D035-54A9-4F2F-B9B1-B5B277F36C4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sldNum" idx="4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6C80-EC0A-4FEF-902D-A40E20A528C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813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14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815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16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7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18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19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20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821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2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24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5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26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827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32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7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sldNum" idx="4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2BD2-4610-45A2-8EE5-AD4541E9429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sldNum" idx="4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70FB-D34E-45F3-9C1E-71B6E90D186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sldNum" idx="4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A7D9-0716-44BD-A531-B6955B80826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sldNum" idx="4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4560-0000-4FCE-9E79-0DFF1FEBCDB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4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 type="sldNum" idx="4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EDBA-29E9-4923-A3EE-EA45C5D2F75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9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5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B1F4-866D-40B4-9E23-C245F1E138B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4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5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E4A0-05A6-4DE4-A11A-5AEEBF5D3D5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sldNum" idx="5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C220-EAA7-47BA-92D2-13461DF16D0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0D4C-CFCD-4489-AEFA-DF92FDA23CC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2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2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sldNum" idx="5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4B73-1EF0-4554-8957-7F638465BA9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7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sldNum" idx="5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904E-C5A3-4AAD-86F6-2752E138FA7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12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3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314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315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6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7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8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319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320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1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322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323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4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325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326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7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8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9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0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331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33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sldNum" idx="5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DC6A-815C-4CD2-AA13-961943DB6D8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1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sldNum" idx="5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725E-DB21-44B7-8C06-5F68B47AFA7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6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sldNum" idx="5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6FE1-F6ED-468D-9A3E-AC3366689F2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0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sldNum" idx="5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714B-7546-41CE-99A8-56CDA37DF08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4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5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sldNum" idx="5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9D55-E574-48C6-8B87-F00BC985D28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9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6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B9F4-4E25-4CB2-A5ED-FCD0CF4BBA5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3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sldNum" idx="6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960E-BD03-4420-9C57-17728B2CF60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A677-E7AE-4CF0-BB28-5C68A44C451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7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sldNum" idx="6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48C6-52CF-47B3-8192-D4F1DA8956B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2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2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Num" idx="6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7278-50DC-4FE6-878A-6E1194B880B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sldNum" idx="6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9A11-8BD3-4356-9BD0-8EC0D11330C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811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1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81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81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6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818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819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0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82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82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82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83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8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sldNum" idx="6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5322-4566-4F6B-8D1F-76C6484E906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1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1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sldNum" idx="6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0CB2-5CD0-44AE-83F9-D31DFCE8453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5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6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 type="sldNum" idx="6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93A6-DDDD-4E33-9D78-93123CD7DC5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0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0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 type="sldNum" idx="6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5310-BB8E-4825-910D-1E0A7D96E01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sldNum" idx="6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6CCC-4642-4D6C-9F63-B283130182C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9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9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 type="sldNum" idx="7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87AE-2DE2-48CF-AB10-70F9E3CFA9D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910D-1C75-46D3-96A8-D2A922B83D5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3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3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 type="sldNum" idx="7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9A95-2C37-4F18-B5D9-C0BDEAD0A0D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7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8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8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 type="sldNum" idx="7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D74C-9F03-4A5B-962A-30A49D34764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2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 type="sldNum" idx="7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D8D5-FCEB-41AC-BA86-6C75898163D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6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7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 type="sldNum" idx="7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A8AA-DA85-426B-9B99-8558DF857DB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9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310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1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12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3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4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15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16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17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318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9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20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21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323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24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29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3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 type="sldNum" idx="7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F489-9CCB-4D20-8AC6-54B7E240765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1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1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sldNum" idx="7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0C1E-FEF5-4550-B062-7123734ECDF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5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6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6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 type="sldNum" idx="7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AD40-9AAB-4B94-800D-2410327FADD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0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0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0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 type="sldNum" idx="7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125F-51C0-44A1-AE43-2D3B1387180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4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 type="sldNum" idx="7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4DFA-57CF-4998-8E6C-FBC39E030CA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1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1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2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2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2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 type="sldNum" idx="8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6193-6671-4637-B2A6-51E1F060734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3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3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 type="sldNum" idx="8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8157-769A-4D4D-BE63-2C2043390D2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4"/>
    <p:sldLayoutId id="2147484690" r:id="rId5"/>
    <p:sldLayoutId id="2147484691" r:id="rId6"/>
    <p:sldLayoutId id="2147484692" r:id="rId7"/>
    <p:sldLayoutId id="2147484693" r:id="rId8"/>
    <p:sldLayoutId id="2147484694" r:id="rId9"/>
    <p:sldLayoutId id="2147484695" r:id="rId10"/>
    <p:sldLayoutId id="2147484696" r:id="rId11"/>
    <p:sldLayoutId id="2147484697" r:id="rId12"/>
    <p:sldLayoutId id="2147484698" r:id="rId13"/>
    <p:sldLayoutId id="2147484699" r:id="rId14"/>
    <p:sldLayoutId id="2147484700" r:id="rId15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7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8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sldNum" idx="8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B3DB-2BFF-4F22-AA9A-B5EBF3B276A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2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2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8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F57B-D174-4062-9738-3D1D9EAD184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6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6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 type="sldNum" idx="8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3B19-138D-4783-9515-D4B7D7B9DC3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76E8-3265-479B-AF53-DE1EBD0771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6192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三章　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神经肌肉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 type="subTitle"/>
          </p:nvPr>
        </p:nvSpPr>
        <p:spPr>
          <a:xfrm>
            <a:off x="755640" y="5445000"/>
            <a:ext cx="671040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延边大学护理学院     崔文香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脑脊液测定正常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59" name="对象 2"/>
          <p:cNvGraphicFramePr/>
          <p:nvPr/>
        </p:nvGraphicFramePr>
        <p:xfrm>
          <a:off x="179280" y="1268280"/>
          <a:ext cx="8591760" cy="54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0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59176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468000" y="162864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胚胎时期神经细胞的分化和繁殖以惊人的速度进行，每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；胚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月时，神经细胞数目达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亿个，之后不再有神经细胞数量的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婴儿期，各种刺激引起的神经冲动传导缓慢，且易于泛化，不易形成兴奋灶，因而婴儿易产生疲劳而进入睡眠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生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角膜反射、瞳孔对光反射、结膜反射及吞咽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以后逐渐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觅食反射、拥抱反射、握持反射、吸吮反射，迈步反射及颈肢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不存在，以后逐渐出现并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腹壁反射、提睾反射及腱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病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包括巴宾斯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binsk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戈登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ordo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奥苯海姆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ppenhei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岁以内可为阳性，个别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阳性可为生理反应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单侧阳性，结合临床考虑是否为病理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1907640" y="2997000"/>
            <a:ext cx="5543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化脓性脑膜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3CB4-7073-4E07-B774-C838EDD008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各种化脓性细菌感染引起的急性脑膜炎症，是小儿、尤其婴幼儿时期常见的中枢神经系统感染性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菌的侵袭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797B-ECEB-42D7-8AE1-1E42E659D00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5" name="Oval 5"/>
          <p:cNvSpPr/>
          <p:nvPr/>
        </p:nvSpPr>
        <p:spPr>
          <a:xfrm>
            <a:off x="3276720" y="2133720"/>
            <a:ext cx="2590560" cy="10792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致病菌的侵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6" name="Rectangle 11"/>
          <p:cNvSpPr/>
          <p:nvPr/>
        </p:nvSpPr>
        <p:spPr>
          <a:xfrm>
            <a:off x="43488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7" name="Rectangle 11"/>
          <p:cNvSpPr/>
          <p:nvPr/>
        </p:nvSpPr>
        <p:spPr>
          <a:xfrm>
            <a:off x="6084720" y="3800520"/>
            <a:ext cx="269748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8" name="Rectangle 11"/>
          <p:cNvSpPr/>
          <p:nvPr/>
        </p:nvSpPr>
        <p:spPr>
          <a:xfrm>
            <a:off x="3276720" y="38005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9" name="Rectangle 11"/>
          <p:cNvSpPr/>
          <p:nvPr/>
        </p:nvSpPr>
        <p:spPr>
          <a:xfrm>
            <a:off x="43488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肠道革兰阴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金黄色葡萄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0" name="Rectangle 11"/>
          <p:cNvSpPr/>
          <p:nvPr/>
        </p:nvSpPr>
        <p:spPr>
          <a:xfrm>
            <a:off x="32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流感嗜血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1" name="Rectangle 11"/>
          <p:cNvSpPr/>
          <p:nvPr/>
        </p:nvSpPr>
        <p:spPr>
          <a:xfrm>
            <a:off x="6084720" y="5084640"/>
            <a:ext cx="269748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脑膜炎双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肺炎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2" name="Line 3"/>
          <p:cNvSpPr/>
          <p:nvPr/>
        </p:nvSpPr>
        <p:spPr>
          <a:xfrm flipH="1">
            <a:off x="241092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3" name="Line 3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4" name="Line 3"/>
          <p:cNvSpPr/>
          <p:nvPr/>
        </p:nvSpPr>
        <p:spPr>
          <a:xfrm>
            <a:off x="6300720" y="3141720"/>
            <a:ext cx="43200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5" name="Line 3"/>
          <p:cNvSpPr/>
          <p:nvPr/>
        </p:nvSpPr>
        <p:spPr>
          <a:xfrm>
            <a:off x="197964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6" name="Line 3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7" name="Line 3"/>
          <p:cNvSpPr/>
          <p:nvPr/>
        </p:nvSpPr>
        <p:spPr>
          <a:xfrm>
            <a:off x="7380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体免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7943-6811-45E3-9737-DDFCEC81F26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1" name="Oval 5"/>
          <p:cNvSpPr/>
          <p:nvPr/>
        </p:nvSpPr>
        <p:spPr>
          <a:xfrm>
            <a:off x="3419640" y="2205000"/>
            <a:ext cx="2286000" cy="10666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机体免疫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2" name="Rectangle 11"/>
          <p:cNvSpPr/>
          <p:nvPr/>
        </p:nvSpPr>
        <p:spPr>
          <a:xfrm>
            <a:off x="111600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M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3" name="Rectangle 11"/>
          <p:cNvSpPr/>
          <p:nvPr/>
        </p:nvSpPr>
        <p:spPr>
          <a:xfrm>
            <a:off x="507672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A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4" name="Rectangle 11"/>
          <p:cNvSpPr/>
          <p:nvPr/>
        </p:nvSpPr>
        <p:spPr>
          <a:xfrm>
            <a:off x="115416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大肠埃希菌败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5" name="Rectangle 11"/>
          <p:cNvSpPr/>
          <p:nvPr/>
        </p:nvSpPr>
        <p:spPr>
          <a:xfrm>
            <a:off x="50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呼吸道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胃肠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6" name="Line 3"/>
          <p:cNvSpPr/>
          <p:nvPr/>
        </p:nvSpPr>
        <p:spPr>
          <a:xfrm flipH="1">
            <a:off x="277128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7" name="Line 3"/>
          <p:cNvSpPr/>
          <p:nvPr/>
        </p:nvSpPr>
        <p:spPr>
          <a:xfrm>
            <a:off x="5867280" y="3141720"/>
            <a:ext cx="43344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8" name="Line 3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9" name="Line 3"/>
          <p:cNvSpPr/>
          <p:nvPr/>
        </p:nvSpPr>
        <p:spPr>
          <a:xfrm>
            <a:off x="673272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C4D4-418E-4D3C-89EB-4FA3848225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826560" y="285480"/>
            <a:ext cx="8317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</a:t>
            </a:r>
            <a:r>
              <a:rPr b="0" i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致病菌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2" name="Text Box 30"/>
          <p:cNvSpPr/>
          <p:nvPr/>
        </p:nvSpPr>
        <p:spPr>
          <a:xfrm>
            <a:off x="6300720" y="357336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3" name="图片 1" descr=""/>
          <p:cNvPicPr/>
          <p:nvPr/>
        </p:nvPicPr>
        <p:blipFill>
          <a:blip r:embed="rId1"/>
          <a:stretch/>
        </p:blipFill>
        <p:spPr>
          <a:xfrm>
            <a:off x="588960" y="1844640"/>
            <a:ext cx="8132760" cy="4249800"/>
          </a:xfrm>
          <a:prstGeom prst="rect">
            <a:avLst/>
          </a:prstGeom>
          <a:ln w="0">
            <a:noFill/>
          </a:ln>
        </p:spPr>
      </p:pic>
      <p:sp>
        <p:nvSpPr>
          <p:cNvPr id="3904" name="AutoShape 5"/>
          <p:cNvSpPr/>
          <p:nvPr/>
        </p:nvSpPr>
        <p:spPr>
          <a:xfrm>
            <a:off x="2411280" y="225432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5" name="图片 2" descr=""/>
          <p:cNvPicPr/>
          <p:nvPr/>
        </p:nvPicPr>
        <p:blipFill>
          <a:blip r:embed="rId2"/>
          <a:stretch/>
        </p:blipFill>
        <p:spPr>
          <a:xfrm>
            <a:off x="1284120" y="3706920"/>
            <a:ext cx="48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8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E353-A6A6-4B94-9749-EF85E905D6F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9" name="Oval 5"/>
          <p:cNvSpPr/>
          <p:nvPr/>
        </p:nvSpPr>
        <p:spPr>
          <a:xfrm>
            <a:off x="3203640" y="1268280"/>
            <a:ext cx="25923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典型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0" name="Rectangle 11"/>
          <p:cNvSpPr/>
          <p:nvPr/>
        </p:nvSpPr>
        <p:spPr>
          <a:xfrm>
            <a:off x="425520" y="29019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感染中毒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急性脑功能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1" name="Rectangle 11"/>
          <p:cNvSpPr/>
          <p:nvPr/>
        </p:nvSpPr>
        <p:spPr>
          <a:xfrm>
            <a:off x="607536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2" name="Rectangle 11"/>
          <p:cNvSpPr/>
          <p:nvPr/>
        </p:nvSpPr>
        <p:spPr>
          <a:xfrm>
            <a:off x="326700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71280" y="4197240"/>
            <a:ext cx="320544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发热、烦躁不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进行性加重的意识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4" name="Rectangle 11"/>
          <p:cNvSpPr/>
          <p:nvPr/>
        </p:nvSpPr>
        <p:spPr>
          <a:xfrm>
            <a:off x="3348000" y="4197240"/>
            <a:ext cx="269712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痛、呕吐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婴儿则有前囟饱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与张力增高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围增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5" name="Rectangle 11"/>
          <p:cNvSpPr/>
          <p:nvPr/>
        </p:nvSpPr>
        <p:spPr>
          <a:xfrm>
            <a:off x="6146640" y="4197240"/>
            <a:ext cx="288936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颈项强直最常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其他如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Kernig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Brudzinski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6" name="Line 3"/>
          <p:cNvSpPr/>
          <p:nvPr/>
        </p:nvSpPr>
        <p:spPr>
          <a:xfrm flipH="1">
            <a:off x="2401560" y="2252520"/>
            <a:ext cx="53028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7" name="Line 3"/>
          <p:cNvSpPr/>
          <p:nvPr/>
        </p:nvSpPr>
        <p:spPr>
          <a:xfrm>
            <a:off x="4562640" y="246852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8" name="Line 3"/>
          <p:cNvSpPr/>
          <p:nvPr/>
        </p:nvSpPr>
        <p:spPr>
          <a:xfrm>
            <a:off x="6291360" y="2252520"/>
            <a:ext cx="43164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9" name="Line 3"/>
          <p:cNvSpPr/>
          <p:nvPr/>
        </p:nvSpPr>
        <p:spPr>
          <a:xfrm>
            <a:off x="1763640" y="378936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0" name="Line 3"/>
          <p:cNvSpPr/>
          <p:nvPr/>
        </p:nvSpPr>
        <p:spPr>
          <a:xfrm>
            <a:off x="4562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1" name="Line 3"/>
          <p:cNvSpPr/>
          <p:nvPr/>
        </p:nvSpPr>
        <p:spPr>
          <a:xfrm>
            <a:off x="7370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535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化脓性脑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脑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癫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吉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巴雷综合征                注意力缺陷多动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812" name="Group 4"/>
          <p:cNvGrpSpPr/>
          <p:nvPr/>
        </p:nvGrpSpPr>
        <p:grpSpPr>
          <a:xfrm>
            <a:off x="1819440" y="2579760"/>
            <a:ext cx="688320" cy="593640"/>
            <a:chOff x="1819440" y="2579760"/>
            <a:chExt cx="688320" cy="593640"/>
          </a:xfrm>
        </p:grpSpPr>
        <p:sp>
          <p:nvSpPr>
            <p:cNvPr id="3813" name="AutoShape 5"/>
            <p:cNvSpPr/>
            <p:nvPr/>
          </p:nvSpPr>
          <p:spPr>
            <a:xfrm>
              <a:off x="1824840" y="258984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4" name="AutoShape 6"/>
            <p:cNvSpPr/>
            <p:nvPr/>
          </p:nvSpPr>
          <p:spPr>
            <a:xfrm>
              <a:off x="1819440" y="257976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5" name="AutoShape 7"/>
            <p:cNvSpPr/>
            <p:nvPr/>
          </p:nvSpPr>
          <p:spPr>
            <a:xfrm>
              <a:off x="1859400" y="26146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16" name="Text Box 8"/>
          <p:cNvSpPr/>
          <p:nvPr/>
        </p:nvSpPr>
        <p:spPr>
          <a:xfrm>
            <a:off x="1980720" y="2637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7" name="AutoShape 9"/>
          <p:cNvSpPr/>
          <p:nvPr/>
        </p:nvSpPr>
        <p:spPr>
          <a:xfrm>
            <a:off x="1819440" y="334152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8" name="Text Box 10"/>
          <p:cNvSpPr/>
          <p:nvPr/>
        </p:nvSpPr>
        <p:spPr>
          <a:xfrm>
            <a:off x="1954080" y="3424320"/>
            <a:ext cx="35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19" name="Group 11"/>
          <p:cNvGrpSpPr/>
          <p:nvPr/>
        </p:nvGrpSpPr>
        <p:grpSpPr>
          <a:xfrm>
            <a:off x="1803240" y="4110120"/>
            <a:ext cx="687240" cy="593640"/>
            <a:chOff x="1803240" y="4110120"/>
            <a:chExt cx="687240" cy="593640"/>
          </a:xfrm>
        </p:grpSpPr>
        <p:sp>
          <p:nvSpPr>
            <p:cNvPr id="3820" name="AutoShape 12"/>
            <p:cNvSpPr/>
            <p:nvPr/>
          </p:nvSpPr>
          <p:spPr>
            <a:xfrm>
              <a:off x="1808640" y="412020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1" name="AutoShape 13"/>
            <p:cNvSpPr/>
            <p:nvPr/>
          </p:nvSpPr>
          <p:spPr>
            <a:xfrm>
              <a:off x="1803240" y="41101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2" name="AutoShape 14"/>
            <p:cNvSpPr/>
            <p:nvPr/>
          </p:nvSpPr>
          <p:spPr>
            <a:xfrm>
              <a:off x="1843200" y="414504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23" name="Text Box 15"/>
          <p:cNvSpPr/>
          <p:nvPr/>
        </p:nvSpPr>
        <p:spPr>
          <a:xfrm>
            <a:off x="1971720" y="418608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4" name="AutoShape 16"/>
          <p:cNvSpPr/>
          <p:nvPr/>
        </p:nvSpPr>
        <p:spPr>
          <a:xfrm>
            <a:off x="1803240" y="487188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5" name="Text Box 17"/>
          <p:cNvSpPr/>
          <p:nvPr/>
        </p:nvSpPr>
        <p:spPr>
          <a:xfrm>
            <a:off x="1963440" y="492912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6" name="Line 18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7" name="Line 19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9" name="Line 21"/>
          <p:cNvSpPr/>
          <p:nvPr/>
        </p:nvSpPr>
        <p:spPr>
          <a:xfrm>
            <a:off x="2484360" y="5445000"/>
            <a:ext cx="4824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0" name="Line 21"/>
          <p:cNvSpPr/>
          <p:nvPr/>
        </p:nvSpPr>
        <p:spPr>
          <a:xfrm>
            <a:off x="2484360" y="6093000"/>
            <a:ext cx="48722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1" name="Group 4"/>
          <p:cNvGrpSpPr/>
          <p:nvPr/>
        </p:nvGrpSpPr>
        <p:grpSpPr>
          <a:xfrm>
            <a:off x="1835280" y="5589720"/>
            <a:ext cx="688320" cy="593640"/>
            <a:chOff x="1835280" y="5589720"/>
            <a:chExt cx="688320" cy="593640"/>
          </a:xfrm>
        </p:grpSpPr>
        <p:sp>
          <p:nvSpPr>
            <p:cNvPr id="3832" name="AutoShape 5"/>
            <p:cNvSpPr/>
            <p:nvPr/>
          </p:nvSpPr>
          <p:spPr>
            <a:xfrm>
              <a:off x="1840680" y="55998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3" name="AutoShape 6"/>
            <p:cNvSpPr/>
            <p:nvPr/>
          </p:nvSpPr>
          <p:spPr>
            <a:xfrm>
              <a:off x="1835280" y="55897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4" name="AutoShape 7"/>
            <p:cNvSpPr/>
            <p:nvPr/>
          </p:nvSpPr>
          <p:spPr>
            <a:xfrm>
              <a:off x="1875240" y="562464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35" name="Text Box 8"/>
          <p:cNvSpPr/>
          <p:nvPr/>
        </p:nvSpPr>
        <p:spPr>
          <a:xfrm>
            <a:off x="2014920" y="5661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6" name="Group 11"/>
          <p:cNvGrpSpPr/>
          <p:nvPr/>
        </p:nvGrpSpPr>
        <p:grpSpPr>
          <a:xfrm>
            <a:off x="1763640" y="1773360"/>
            <a:ext cx="687240" cy="593640"/>
            <a:chOff x="1763640" y="1773360"/>
            <a:chExt cx="687240" cy="593640"/>
          </a:xfrm>
        </p:grpSpPr>
        <p:sp>
          <p:nvSpPr>
            <p:cNvPr id="3837" name="AutoShape 12"/>
            <p:cNvSpPr/>
            <p:nvPr/>
          </p:nvSpPr>
          <p:spPr>
            <a:xfrm>
              <a:off x="1769040" y="1783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8" name="AutoShape 13"/>
            <p:cNvSpPr/>
            <p:nvPr/>
          </p:nvSpPr>
          <p:spPr>
            <a:xfrm>
              <a:off x="1763640" y="1773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9" name="AutoShape 14"/>
            <p:cNvSpPr/>
            <p:nvPr/>
          </p:nvSpPr>
          <p:spPr>
            <a:xfrm>
              <a:off x="1803600" y="1808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0" name="Text Box 15"/>
          <p:cNvSpPr/>
          <p:nvPr/>
        </p:nvSpPr>
        <p:spPr>
          <a:xfrm>
            <a:off x="1932120" y="184932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1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典型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24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EECF-92E9-490F-8B65-C4AB2C7CCDB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5" name="Oval 5"/>
          <p:cNvSpPr/>
          <p:nvPr/>
        </p:nvSpPr>
        <p:spPr>
          <a:xfrm>
            <a:off x="250920" y="3284640"/>
            <a:ext cx="22701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非典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6" name="Rectangle 11"/>
          <p:cNvSpPr/>
          <p:nvPr/>
        </p:nvSpPr>
        <p:spPr>
          <a:xfrm>
            <a:off x="4211640" y="1700280"/>
            <a:ext cx="460836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体温可高可低或不发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甚至体温不升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7" name="Rectangle 11"/>
          <p:cNvSpPr/>
          <p:nvPr/>
        </p:nvSpPr>
        <p:spPr>
          <a:xfrm>
            <a:off x="4211640" y="4344480"/>
            <a:ext cx="460044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惊厥可不典型，如仅见面部、肢体局灶或多灶性抽动、局部或全身性肌阵挛，或呈眨眼、呼吸不规则、屏气等各种不显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8" name="Rectangle 11"/>
          <p:cNvSpPr/>
          <p:nvPr/>
        </p:nvSpPr>
        <p:spPr>
          <a:xfrm>
            <a:off x="4211640" y="2565360"/>
            <a:ext cx="4608360" cy="11509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表现不明显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幼婴不会诉头痛，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仅有吐奶、尖叫或颅缝分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9" name="Line 3"/>
          <p:cNvSpPr/>
          <p:nvPr/>
        </p:nvSpPr>
        <p:spPr>
          <a:xfrm flipV="1">
            <a:off x="2411280" y="2133360"/>
            <a:ext cx="149544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0" name="Rectangle 11"/>
          <p:cNvSpPr/>
          <p:nvPr/>
        </p:nvSpPr>
        <p:spPr>
          <a:xfrm>
            <a:off x="4211640" y="5448240"/>
            <a:ext cx="46083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不明显，与婴儿肌肉不发达，肌力弱和反应低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1" name="Line 3"/>
          <p:cNvSpPr/>
          <p:nvPr/>
        </p:nvSpPr>
        <p:spPr>
          <a:xfrm>
            <a:off x="2700360" y="4076640"/>
            <a:ext cx="1295280" cy="216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2" name="Line 3"/>
          <p:cNvSpPr/>
          <p:nvPr/>
        </p:nvSpPr>
        <p:spPr>
          <a:xfrm flipV="1">
            <a:off x="2700360" y="3141720"/>
            <a:ext cx="129528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3" name="Line 3"/>
          <p:cNvSpPr/>
          <p:nvPr/>
        </p:nvSpPr>
        <p:spPr>
          <a:xfrm>
            <a:off x="2268360" y="4724280"/>
            <a:ext cx="1727280" cy="1008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6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5D2E-7318-4277-AA19-895016C3264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7" name="Oval 5"/>
          <p:cNvSpPr/>
          <p:nvPr/>
        </p:nvSpPr>
        <p:spPr>
          <a:xfrm>
            <a:off x="2843280" y="2205000"/>
            <a:ext cx="2270160" cy="107964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8" name="Rectangle 11"/>
          <p:cNvSpPr/>
          <p:nvPr/>
        </p:nvSpPr>
        <p:spPr>
          <a:xfrm>
            <a:off x="250920" y="4292640"/>
            <a:ext cx="1944720" cy="450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硬膜下积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9" name="Rectangle 11"/>
          <p:cNvSpPr/>
          <p:nvPr/>
        </p:nvSpPr>
        <p:spPr>
          <a:xfrm>
            <a:off x="4284720" y="4293720"/>
            <a:ext cx="172728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积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0" name="Rectangle 11"/>
          <p:cNvSpPr/>
          <p:nvPr/>
        </p:nvSpPr>
        <p:spPr>
          <a:xfrm>
            <a:off x="2411280" y="4292640"/>
            <a:ext cx="1729080" cy="43164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室管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1" name="Rectangle 11"/>
          <p:cNvSpPr/>
          <p:nvPr/>
        </p:nvSpPr>
        <p:spPr>
          <a:xfrm>
            <a:off x="6429240" y="4074120"/>
            <a:ext cx="25005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抗利尿激素不适当分泌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2" name="Line 3"/>
          <p:cNvSpPr/>
          <p:nvPr/>
        </p:nvSpPr>
        <p:spPr>
          <a:xfrm>
            <a:off x="5364000" y="2997360"/>
            <a:ext cx="1729080" cy="1008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3" name="Line 3"/>
          <p:cNvSpPr/>
          <p:nvPr/>
        </p:nvSpPr>
        <p:spPr>
          <a:xfrm flipH="1">
            <a:off x="3276720" y="3284640"/>
            <a:ext cx="2872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4" name="Line 3"/>
          <p:cNvSpPr/>
          <p:nvPr/>
        </p:nvSpPr>
        <p:spPr>
          <a:xfrm>
            <a:off x="4643280" y="3284640"/>
            <a:ext cx="2890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5" name="Line 3"/>
          <p:cNvSpPr/>
          <p:nvPr/>
        </p:nvSpPr>
        <p:spPr>
          <a:xfrm flipH="1">
            <a:off x="1186920" y="3141720"/>
            <a:ext cx="158436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E22F-5AA4-46BC-843A-3BDB021CAA6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皮肤瘀点、瘀斑涂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周血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清降钙素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神经影像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49" name="Picture 4" descr="图片19"/>
          <p:cNvPicPr/>
          <p:nvPr/>
        </p:nvPicPr>
        <p:blipFill>
          <a:blip r:embed="rId1"/>
          <a:stretch/>
        </p:blipFill>
        <p:spPr>
          <a:xfrm>
            <a:off x="565164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EDEB-FF28-40D5-A541-98FE84F1643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上腺素皮质激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及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治疗：①硬脑膜下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室管膜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E68E-3821-4447-9B21-7BA38A97AE2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小儿患病前有无呼吸道、消化道或皮肤的感染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患儿生命体征，评估患儿有无发病各项症状，并判断症状的程度和性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对患儿健康的需求；是否有焦虑和恐惧的心理状况。评估家庭对疾病治疗和护理的经济承受能力和社会的支持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2457-5B06-4D4D-A868-8521D453EB3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171360" y="1628640"/>
            <a:ext cx="889344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细菌感染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惊厥发作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摄入不足、机体消耗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疾病预后不良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54BA-8260-4072-9B21-020D90817A0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96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96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6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7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7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5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76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3977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3978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9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0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1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2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3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8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8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8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1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2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993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994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5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6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97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8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9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00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01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02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3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4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5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6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7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08" name="AutoShape 53"/>
          <p:cNvSpPr/>
          <p:nvPr/>
        </p:nvSpPr>
        <p:spPr>
          <a:xfrm>
            <a:off x="3465360" y="16765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9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病室安静清洁、空气新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遵医嘱及时给予退热和抗生素等药物治疗，并了解各种药物的使用配伍要求、适应证、禁忌证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2" name="矩形 55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477C-4B5D-4711-89BF-4874DC449EC9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1" name="AutoShape 53"/>
          <p:cNvSpPr/>
          <p:nvPr/>
        </p:nvSpPr>
        <p:spPr>
          <a:xfrm>
            <a:off x="3622680" y="24955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2" name="圆角矩形 54"/>
          <p:cNvSpPr/>
          <p:nvPr/>
        </p:nvSpPr>
        <p:spPr>
          <a:xfrm>
            <a:off x="4716360" y="1849320"/>
            <a:ext cx="3143520" cy="1284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命体征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发症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3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3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3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9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0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1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42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43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4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5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6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7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8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5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5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5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5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6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57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8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9" name="矩形 81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60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06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06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6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6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EF2F-31D4-419B-BBD7-FD59D2E504C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9" name="AutoShape 53"/>
          <p:cNvSpPr/>
          <p:nvPr/>
        </p:nvSpPr>
        <p:spPr>
          <a:xfrm>
            <a:off x="3933720" y="32590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0" name="圆角矩形 55"/>
          <p:cNvSpPr/>
          <p:nvPr/>
        </p:nvSpPr>
        <p:spPr>
          <a:xfrm>
            <a:off x="4788000" y="2006640"/>
            <a:ext cx="4127400" cy="2735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环境和患儿安静，护理操作动作尽量轻柔、集中进行，修剪患儿指甲，专人守护和陪伴患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协助患儿洗漱、大小便及个人卫生等生活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7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7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7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7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8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8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8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6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8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8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8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9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3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4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95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96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97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8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9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0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1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2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0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0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0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9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0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2" name="矩形 138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1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1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1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9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2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A558-42B1-46E4-BEC7-806E8187DC3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3" name="AutoShape 53"/>
          <p:cNvSpPr/>
          <p:nvPr/>
        </p:nvSpPr>
        <p:spPr>
          <a:xfrm>
            <a:off x="3940200" y="4199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4" name="圆角矩形 54"/>
          <p:cNvSpPr/>
          <p:nvPr/>
        </p:nvSpPr>
        <p:spPr>
          <a:xfrm>
            <a:off x="4876920" y="3100320"/>
            <a:ext cx="4005000" cy="2225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高热量、高蛋白、高维生素、易消化的清淡流质或半流质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2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2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2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3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3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3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4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4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4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9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150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151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2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3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54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5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6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3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4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65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6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6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6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6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7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3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74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-1440" y="1844280"/>
            <a:ext cx="91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说出小儿化脓性脑膜炎、病毒性脑膜炎及癫痫持续状态的定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描述小儿化脓性脑膜炎和吉兰</a:t>
            </a:r>
            <a:r>
              <a:rPr b="0" lang="en-US" sz="2000" spc="-1" strike="noStrike">
                <a:solidFill>
                  <a:srgbClr val="03517d"/>
                </a:solidFill>
                <a:latin typeface="黑体"/>
                <a:ea typeface="黑体"/>
              </a:rPr>
              <a:t>-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巴雷综合征脑脊液的特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化脓性脑膜炎及病毒性脑膜炎的临床特点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小儿癫痫的分型、注意力缺陷多动症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正确选择神经系统检查方法评估神经系统各种神经疾病存在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根据小儿不同年龄、疾病特征及护理问题实施相应的护理措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7692-4214-466E-88B7-9BBE33F9DA8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7" name="AutoShape 53"/>
          <p:cNvSpPr/>
          <p:nvPr/>
        </p:nvSpPr>
        <p:spPr>
          <a:xfrm flipV="1">
            <a:off x="3100320" y="5068080"/>
            <a:ext cx="1000080" cy="88920"/>
          </a:xfrm>
          <a:prstGeom prst="rightArrow">
            <a:avLst>
              <a:gd name="adj1" fmla="val 50000"/>
              <a:gd name="adj2" fmla="val 2233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8" name="圆角矩形 54"/>
          <p:cNvSpPr/>
          <p:nvPr/>
        </p:nvSpPr>
        <p:spPr>
          <a:xfrm>
            <a:off x="4302000" y="4338720"/>
            <a:ext cx="464364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患儿不同年龄，采用不同方式实施心理安慰、关心和爱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家长安慰，消除顾虑。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6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4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9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9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9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1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2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03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04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05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6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7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8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9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0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7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8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9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0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2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2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2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2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7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28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E53D-5A9B-4E7F-B3D6-50B767CA913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1" name="AutoShape 53"/>
          <p:cNvSpPr/>
          <p:nvPr/>
        </p:nvSpPr>
        <p:spPr>
          <a:xfrm>
            <a:off x="314316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2" name="圆角矩形 54"/>
          <p:cNvSpPr/>
          <p:nvPr/>
        </p:nvSpPr>
        <p:spPr>
          <a:xfrm>
            <a:off x="4000680" y="3611520"/>
            <a:ext cx="5000400" cy="2889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积极防治上呼吸道、消化道等感染性疾病，预防皮肤外伤和脐部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与家属一起根据患儿具体情况制订系统且行之有效的功能训练计划，指导家长具体的护理措施，促进机体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0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8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5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6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57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58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59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0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1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62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3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4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1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2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73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4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7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7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7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1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2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4" name="圆角矩形 3"/>
          <p:cNvSpPr/>
          <p:nvPr/>
        </p:nvSpPr>
        <p:spPr>
          <a:xfrm>
            <a:off x="11160" y="1069920"/>
            <a:ext cx="9132840" cy="546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女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，因发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，呕吐伴抽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前开始发热，体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8.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持续不降，伴有流涕、咳嗽，烦躁不安。呕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，为胃内容物，量多，呈喷射状。入院当天突然出现抽搐，表现为意识丧失、双眼上翻、四肢强直，持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钟。患病以来精神萎靡，大小便正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格检查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 39.45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 4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P 1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W 9.0k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精神萎靡，嗜睡。皮肤黏膜未见瘀点、瘀斑。前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×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隆起。双侧瞳孔等大等圆，对光反射迟钝。咽部红。颈抵抗，双肺呼吸音粗，心音有力律齐，未闻及病理性杂音。腹软，肝肋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5cm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剑突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质中，脾未扪及。脊柱四肢发育正常。四肢肌张力增高，腱反射活跃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Kerni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rudzinski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巴氏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辅助检查：脑脊液检查结果：压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30mmH2O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外观浑浊；白细胞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2000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8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蛋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00mg0.9g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264mmmol/L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氯化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10 mmmol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血常规检查结果：白细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7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28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尿常规、便常规。肝功均正常。胸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线片未见异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问题：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．患儿最可能的临床诊断是什么？说出诊断依据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5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2572920" y="270828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病毒性脑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A65D-C931-4C55-80B0-721B8B79CC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encephalit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病毒感染引起的颅内急性炎症。若病变主要累及脑实质则称为病毒性脑炎，若病变主要累及脑膜则称为病毒性脑膜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meningit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大多数患儿病程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病毒感染均可引起脑炎、脑膜炎，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肠道病毒（柯萨奇病毒、埃可病毒）感染，其次为单纯疱疹病毒、腮腺炎病毒和虫媒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2EDE-2649-4EDB-8DA6-FB5EF47666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246560" y="299520"/>
            <a:ext cx="4826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5" name="矩形 1"/>
          <p:cNvSpPr/>
          <p:nvPr/>
        </p:nvSpPr>
        <p:spPr>
          <a:xfrm>
            <a:off x="4246560" y="337644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6" name="矩形 27"/>
          <p:cNvSpPr/>
          <p:nvPr/>
        </p:nvSpPr>
        <p:spPr>
          <a:xfrm>
            <a:off x="4992840" y="2467080"/>
            <a:ext cx="18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释放入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7" name="矩形 28"/>
          <p:cNvSpPr/>
          <p:nvPr/>
        </p:nvSpPr>
        <p:spPr>
          <a:xfrm>
            <a:off x="4246560" y="1579680"/>
            <a:ext cx="334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局部的初期复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8" name="矩形 29"/>
          <p:cNvSpPr/>
          <p:nvPr/>
        </p:nvSpPr>
        <p:spPr>
          <a:xfrm>
            <a:off x="2046240" y="1928880"/>
            <a:ext cx="201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胃肠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9" name="矩形 30"/>
          <p:cNvSpPr/>
          <p:nvPr/>
        </p:nvSpPr>
        <p:spPr>
          <a:xfrm>
            <a:off x="343080" y="1558800"/>
            <a:ext cx="162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0" name="矩形 31"/>
          <p:cNvSpPr/>
          <p:nvPr/>
        </p:nvSpPr>
        <p:spPr>
          <a:xfrm>
            <a:off x="1900080" y="1236600"/>
            <a:ext cx="150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呼吸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1" name="矩形 32"/>
          <p:cNvSpPr/>
          <p:nvPr/>
        </p:nvSpPr>
        <p:spPr>
          <a:xfrm>
            <a:off x="6378480" y="3425760"/>
            <a:ext cx="299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发热等全身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2" name="矩形 33"/>
          <p:cNvSpPr/>
          <p:nvPr/>
        </p:nvSpPr>
        <p:spPr>
          <a:xfrm>
            <a:off x="4246560" y="5538960"/>
            <a:ext cx="3094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3" name="矩形 34"/>
          <p:cNvSpPr/>
          <p:nvPr/>
        </p:nvSpPr>
        <p:spPr>
          <a:xfrm>
            <a:off x="5118120" y="434808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血脑屏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304" name="直接箭头连接符 3"/>
          <p:cNvCxnSpPr/>
          <p:nvPr/>
        </p:nvCxnSpPr>
        <p:spPr>
          <a:xfrm>
            <a:off x="1318680" y="1949040"/>
            <a:ext cx="2791440" cy="108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5" name="直接箭头连接符 5"/>
          <p:cNvCxnSpPr/>
          <p:nvPr/>
        </p:nvCxnSpPr>
        <p:spPr>
          <a:xfrm>
            <a:off x="4992480" y="2184480"/>
            <a:ext cx="1080" cy="124200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6" name="直接箭头连接符 7"/>
          <p:cNvCxnSpPr/>
          <p:nvPr/>
        </p:nvCxnSpPr>
        <p:spPr>
          <a:xfrm>
            <a:off x="4992480" y="4114800"/>
            <a:ext cx="1080" cy="151992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sp>
        <p:nvSpPr>
          <p:cNvPr id="4307" name="直接连接符 9"/>
          <p:cNvSpPr/>
          <p:nvPr/>
        </p:nvSpPr>
        <p:spPr>
          <a:xfrm>
            <a:off x="5792760" y="3795840"/>
            <a:ext cx="585720" cy="0"/>
          </a:xfrm>
          <a:prstGeom prst="line">
            <a:avLst/>
          </a:prstGeom>
          <a:ln w="9360">
            <a:solidFill>
              <a:srgbClr val="006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膜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先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上呼吸道或消化道感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史，表现为发热、恶心、呕吐。继而婴儿出现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烦躁不安，易被激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年长儿表现头痛、颈背疼痛，脑膜刺激征阳性。很少发生严重意识障碍和惊厥，无局限性神经系统体征。病程大多为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906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驱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全身感染症状，如发热、头痛、呕吐、腹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枢神经系统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惊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意识障碍  ③颅内压增高    ④运动功能障碍   ⑤神经情绪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程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，多数患儿可完全恢复，但少数遗留癫痫、肢体瘫痪、智力倒退等后遗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1B41-D334-46EC-A1B0-16CC201F01E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42879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/MR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315" name="Picture 4" descr="图片19"/>
          <p:cNvPicPr/>
          <p:nvPr/>
        </p:nvPicPr>
        <p:blipFill>
          <a:blip r:embed="rId1"/>
          <a:stretch/>
        </p:blipFill>
        <p:spPr>
          <a:xfrm>
            <a:off x="550872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5" name=""/>
          <p:cNvSpPr txBox="1"/>
          <p:nvPr/>
        </p:nvSpPr>
        <p:spPr>
          <a:xfrm>
            <a:off x="323640" y="256536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神经系统解剖生理特点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9E0F-33D9-400F-B691-1798CCAB799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治疗与支持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降温、镇静止痉、控制脑水肿、降低颅内压，卧床休息，维持体温正常及水、电解质平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病毒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阿昔洛韦、干扰素、更昔洛韦、利巴韦林或静脉注射免疫球蛋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96A1-1054-4A46-BF2C-9317B6F6778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228240" y="1832040"/>
            <a:ext cx="899172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有无呼吸道或胃肠道感染史，有无动物接触史或蚊虫叮咬史，预防接种史和流行病学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史：起病前有无上呼吸道感染、胃肠道感染史，是否进行预防接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体状况：患儿生命体征，精神状态、神志；有无头痛、呕吐、惊厥；囟门是否紧张、隆起、有无脑膜刺激征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70C9-94E4-4885-8A4B-3B6788638F3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247680" y="1730520"/>
            <a:ext cx="874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病毒血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惊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急性意识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脑实质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昏迷、瘫痪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于机体需要量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呕吐、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6A1D-D4BD-4DFF-A98E-5BF85ADBEE4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7" name="AutoShape 53"/>
          <p:cNvSpPr/>
          <p:nvPr/>
        </p:nvSpPr>
        <p:spPr>
          <a:xfrm>
            <a:off x="3454560" y="15667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8" name="圆角矩形 54"/>
          <p:cNvSpPr/>
          <p:nvPr/>
        </p:nvSpPr>
        <p:spPr>
          <a:xfrm>
            <a:off x="4214880" y="1357200"/>
            <a:ext cx="4929120" cy="78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2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3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3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3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33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33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4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4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34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34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5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35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35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6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36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36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6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37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37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7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7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38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38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243B-9F5F-4AB3-9B11-C6D15E969C4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9" name="AutoShape 53"/>
          <p:cNvSpPr/>
          <p:nvPr/>
        </p:nvSpPr>
        <p:spPr>
          <a:xfrm>
            <a:off x="3591000" y="219564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0" name="圆角矩形 54"/>
          <p:cNvSpPr/>
          <p:nvPr/>
        </p:nvSpPr>
        <p:spPr>
          <a:xfrm>
            <a:off x="4643280" y="1552680"/>
            <a:ext cx="3143520" cy="1284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惊厥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约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9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9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9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0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0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0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0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0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0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1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1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1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2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2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3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3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3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3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3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4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4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44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44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4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AF2D-8E44-409F-968A-3FBBA88E712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1" name="AutoShape 53"/>
          <p:cNvSpPr/>
          <p:nvPr/>
        </p:nvSpPr>
        <p:spPr>
          <a:xfrm>
            <a:off x="3946680" y="29383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2" name="圆角矩形 55"/>
          <p:cNvSpPr/>
          <p:nvPr/>
        </p:nvSpPr>
        <p:spPr>
          <a:xfrm>
            <a:off x="4788000" y="2052720"/>
            <a:ext cx="4127400" cy="180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除影响患儿情绪的不良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保护性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53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454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455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6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7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58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9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0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1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62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63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4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5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6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7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8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9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70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71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2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3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4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5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6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77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78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79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0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1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82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3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4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85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86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87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8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9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90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1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2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93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4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95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96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97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8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9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0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1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2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03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04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05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6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7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8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9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0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C2B4-E78E-4683-AC04-FD5E8D69900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3" name="AutoShape 53"/>
          <p:cNvSpPr/>
          <p:nvPr/>
        </p:nvSpPr>
        <p:spPr>
          <a:xfrm>
            <a:off x="4316400" y="3656160"/>
            <a:ext cx="530280" cy="63360"/>
          </a:xfrm>
          <a:prstGeom prst="rightArrow">
            <a:avLst>
              <a:gd name="adj1" fmla="val 50000"/>
              <a:gd name="adj2" fmla="val 2220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4" name="圆角矩形 54"/>
          <p:cNvSpPr/>
          <p:nvPr/>
        </p:nvSpPr>
        <p:spPr>
          <a:xfrm>
            <a:off x="5046840" y="3083040"/>
            <a:ext cx="4005000" cy="1253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呈功能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早进行肢体功能锻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15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16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17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8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9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0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1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2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23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24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25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6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7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8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9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0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1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32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33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4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5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36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7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8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9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540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541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2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3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4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5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6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47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548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549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0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1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2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3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4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55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6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57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558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559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0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1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62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3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64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65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66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67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8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9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70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1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2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6559-A018-4382-800C-DA803C949C8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5" name="AutoShape 53"/>
          <p:cNvSpPr/>
          <p:nvPr/>
        </p:nvSpPr>
        <p:spPr>
          <a:xfrm flipV="1">
            <a:off x="3429000" y="4368240"/>
            <a:ext cx="727200" cy="44280"/>
          </a:xfrm>
          <a:prstGeom prst="rightArrow">
            <a:avLst>
              <a:gd name="adj1" fmla="val 50000"/>
              <a:gd name="adj2" fmla="val 2307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6" name="圆角矩形 54"/>
          <p:cNvSpPr/>
          <p:nvPr/>
        </p:nvSpPr>
        <p:spPr>
          <a:xfrm>
            <a:off x="4546440" y="3456000"/>
            <a:ext cx="436896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昏迷患儿侧卧位，定时翻身及按摩皮肤，防止出现压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77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78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79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0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1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2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3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4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5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86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87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8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9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0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1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2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93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94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95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6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7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8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9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0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1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02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03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4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5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6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7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8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9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10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11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2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3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14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5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6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17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8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19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20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21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2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3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4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5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6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27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28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29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0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1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2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3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4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A54F-915B-4899-907C-DAD348E58FE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7" name="AutoShape 53"/>
          <p:cNvSpPr/>
          <p:nvPr/>
        </p:nvSpPr>
        <p:spPr>
          <a:xfrm>
            <a:off x="4295880" y="49989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8" name="圆角矩形 54"/>
          <p:cNvSpPr/>
          <p:nvPr/>
        </p:nvSpPr>
        <p:spPr>
          <a:xfrm>
            <a:off x="5351400" y="4479840"/>
            <a:ext cx="3564000" cy="11271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瞳孔及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意识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64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64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4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4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64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64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5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65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65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6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6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7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7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7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7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8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8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8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8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9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9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9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419D-E72D-453F-A3B1-78009E625A4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9" name="AutoShape 53"/>
          <p:cNvSpPr/>
          <p:nvPr/>
        </p:nvSpPr>
        <p:spPr>
          <a:xfrm>
            <a:off x="3103560" y="57913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0" name="圆角矩形 54"/>
          <p:cNvSpPr/>
          <p:nvPr/>
        </p:nvSpPr>
        <p:spPr>
          <a:xfrm>
            <a:off x="4316400" y="4511520"/>
            <a:ext cx="4599000" cy="1892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向患儿和家长介绍病情、用药指导及护理方法，指导并鼓励家长坚持智力训练和瘫痪肢体的功能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70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70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0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71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71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1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71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71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2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2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72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72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3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73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73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4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4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74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74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5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75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75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5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7" name=""/>
          <p:cNvSpPr txBox="1"/>
          <p:nvPr/>
        </p:nvSpPr>
        <p:spPr>
          <a:xfrm>
            <a:off x="395280" y="1681200"/>
            <a:ext cx="8352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57160" indent="-85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8" name="内容占位符 2"/>
          <p:cNvSpPr/>
          <p:nvPr/>
        </p:nvSpPr>
        <p:spPr>
          <a:xfrm>
            <a:off x="617400" y="2349360"/>
            <a:ext cx="79092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发育是小儿神经心理行为发展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器官中神经系统发育居领先地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的生长是形态发育与结构功能逐渐成熟的过程，主要是神经细胞体积的增大和与之相连的突触数量的增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0" name="圆角矩形 3"/>
          <p:cNvSpPr/>
          <p:nvPr/>
        </p:nvSpPr>
        <p:spPr>
          <a:xfrm>
            <a:off x="11160" y="1306440"/>
            <a:ext cx="9132840" cy="5118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男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因“发热、神昏抽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”由某医院急诊科收入院，患儿入院时高热，处于中度昏迷状态，频繁抽搐伴意识丧失，喉中痰鸣，大便秘结。查体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39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14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3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P105/56mmHg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瞳孔直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m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两侧对称，对光反应迟钝，各生理反射减弱，双侧巴氏征阳性，脑膜刺激征阳性，双眼视盘轻度水肿。脑脊液检查：压力升高，外观清亮，白细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淋巴细胞为主，糖和氯化物正常，蛋白质轻度增高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前曾患有上呼吸道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问题：该患儿的主要护理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1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2868120" y="2997000"/>
            <a:ext cx="40165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　癫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8013-7BFB-4DA5-B9DC-59FFA76813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癫 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387360" y="1557000"/>
            <a:ext cx="84772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eizure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于脑部神经元发作性异常放电引起脑功能障碍的一组临床症状，表现为意识障碍、抽搐、精神行为异常等，多数癫痫发作持续时间短暂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pileps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原因引起的脑部慢性疾患，是脑内神经元反复发作性异常放电导致突发性、暂时性脑功能失常，临床出现意识、运动、感觉、精神或自主神经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内结构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8DC2-2C33-4D77-91C8-B5821F16D9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1" name="矩形 1"/>
          <p:cNvSpPr/>
          <p:nvPr/>
        </p:nvSpPr>
        <p:spPr>
          <a:xfrm>
            <a:off x="395280" y="287172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发生机制十分复杂，迄今尚未完全阐明。许多研究结果表明它的电生理本质是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神经元过度同步放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结果，与神经生化、神经生理、神经生物学、免疫学等均密切相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/>
          </p:nvPr>
        </p:nvSpPr>
        <p:spPr>
          <a:xfrm>
            <a:off x="47304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局灶性发作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单纯局灶性发作：临床以局灶性运动性发作最常见，发作时间平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秒，发作后无不适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复杂局灶性发作：发作时有意识、知觉损害。意识部分丧失，多起源于颞区或额颞区，伴有精神行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5970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全面部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强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神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肌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张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痉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良性癫痫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最常见的一种癫痫综合征。从口面部开始，很快发展至全身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，意识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婴儿痉挛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繁的强直痉挛发作，表现为屈曲性、伸展性及混合性三种。以屈曲性及混合性发作多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Lennox-Gastaut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综合征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多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常见肌阵挛、强直、失张力及非典型失神等多种发作，也可有大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302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持续状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tatus epilepticu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一次发作持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或反复发作间歇期意识不能完全恢复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者，称为癫痫持续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因突然停药、药物中毒、高热等诱发。临床多见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持续状态，颅内、外急性疾病均可引起，为儿科急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7A7A-E5C1-4BE6-A9A7-D660E4C05AD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确诊癫痫发作与癫痫最重要的检查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像学检查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I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颅脑影像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783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3850" name="内容占位符 2" descr=""/>
          <p:cNvPicPr/>
          <p:nvPr/>
        </p:nvPicPr>
        <p:blipFill>
          <a:blip r:embed="rId1"/>
          <a:stretch/>
        </p:blipFill>
        <p:spPr>
          <a:xfrm>
            <a:off x="838080" y="1332000"/>
            <a:ext cx="73342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2861-706D-440C-9705-87F04AAB012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癫痫药物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治疗原则是早期用药，根据发作类型选药，以单一用药为主，从小剂量开始直至完全控制发作，长期规律服药，定期复查、监测药物血浓度，注意药物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针对经合理规范的抗癫痫药物治疗其疗效不佳者，属于难治性癫痫，其中部分患儿可以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35A0-0706-4A5F-B397-D43F99291A8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饥饿、过饱、饮酒、劳累等诱发因素，家庭居住的气候、环境条件，家族中有无类似病史的成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生命体征，了解患儿发作时的临床表现、发作时间及次数等，了解相关影像学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了解可能引发疾病的社会及环境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5969-8C1F-4D0D-A5DB-61A62AE2373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窒息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喉痉挛、呼吸道分泌物增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癫痫发作时抽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水肿、酸中毒、呼吸衰竭、循环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知识缺乏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儿家长缺乏癫痫发作的急救知识及正确服用抗癫痫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766F-2F79-4F5D-ABE9-D79ED33D4299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5" name="AutoShape 53"/>
          <p:cNvSpPr/>
          <p:nvPr/>
        </p:nvSpPr>
        <p:spPr>
          <a:xfrm>
            <a:off x="3571920" y="1914480"/>
            <a:ext cx="488880" cy="46080"/>
          </a:xfrm>
          <a:prstGeom prst="rightArrow">
            <a:avLst>
              <a:gd name="adj1" fmla="val 50000"/>
              <a:gd name="adj2" fmla="val 2205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6" name="圆角矩形 54"/>
          <p:cNvSpPr/>
          <p:nvPr/>
        </p:nvSpPr>
        <p:spPr>
          <a:xfrm>
            <a:off x="4214880" y="1563840"/>
            <a:ext cx="4929120" cy="780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97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798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799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0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1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02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3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4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05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06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07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8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9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0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1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2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13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814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15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6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7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8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9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0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21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22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23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4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5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6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7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8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9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0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1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32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33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4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5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36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7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38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715E-2380-4949-AFBB-6CC7143BE34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1" name="AutoShape 53"/>
          <p:cNvSpPr/>
          <p:nvPr/>
        </p:nvSpPr>
        <p:spPr>
          <a:xfrm>
            <a:off x="3368520" y="28098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2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操作时勿强行按压肢体，以免引起骨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患儿肢体，防止皮肤破损、骨折或脱臼、坠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活动与休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43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44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45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6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7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48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9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0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1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52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53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4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5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56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7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8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9" name="Group 4"/>
          <p:cNvGrpSpPr/>
          <p:nvPr/>
        </p:nvGrpSpPr>
        <p:grpSpPr>
          <a:xfrm>
            <a:off x="196920" y="1565280"/>
            <a:ext cx="2997720" cy="748800"/>
            <a:chOff x="196920" y="1565280"/>
            <a:chExt cx="2997720" cy="748800"/>
          </a:xfrm>
        </p:grpSpPr>
        <p:grpSp>
          <p:nvGrpSpPr>
            <p:cNvPr id="4860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61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2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3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64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5" name="Text Box 10"/>
            <p:cNvSpPr/>
            <p:nvPr/>
          </p:nvSpPr>
          <p:spPr>
            <a:xfrm>
              <a:off x="155412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气道通畅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6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67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68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69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0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1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72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3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4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75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6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77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78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79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0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1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2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3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84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2009-B637-412E-8D54-254C1D33236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7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8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癫痫发作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循环衰竭的征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患儿经抗癫痫治疗后，癫痫发作、智力和运动发育等状况的转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9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90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91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2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3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94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5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6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97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98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99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0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1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02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3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4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05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06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07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8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9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0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1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2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13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14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15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6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7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8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9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0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21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2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23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24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25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6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7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28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9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30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4892-CA3A-466C-8459-2410EC2ED5A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3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4" name="圆角矩形 54"/>
          <p:cNvSpPr/>
          <p:nvPr/>
        </p:nvSpPr>
        <p:spPr>
          <a:xfrm>
            <a:off x="4495680" y="3833640"/>
            <a:ext cx="4324320" cy="2654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围生期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家长合理安排患儿的生活与学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除患儿的精神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35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936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937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8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9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0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1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2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43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944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945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6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7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8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9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0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1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52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53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4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5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6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7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8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9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60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61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2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3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4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5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6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67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8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69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70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71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2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3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74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5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76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节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860D-C1FC-4C86-9FD3-7041ADC264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  <a:ea typeface="黑体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/>
          </p:nvPr>
        </p:nvSpPr>
        <p:spPr>
          <a:xfrm>
            <a:off x="390600" y="2276280"/>
            <a:ext cx="847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感染性多发性神经根神经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uillain-Barre syndrome, G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小儿最常见的急性周围神经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394920" y="242064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因尚未完全明确。多数学者认为本病是免疫介导的迟发型超敏反应，感染是启动免疫反应的首要因素。最主要的感染因子为空肠弯曲菌、巨细胞病毒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、带状疱疹病毒、肺炎支原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2" name="内容占位符 2"/>
          <p:cNvSpPr/>
          <p:nvPr/>
        </p:nvSpPr>
        <p:spPr>
          <a:xfrm>
            <a:off x="500040" y="1844640"/>
            <a:ext cx="8110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生时已具备功能，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构造已接近成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髓末端：新生儿期位于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下缘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上移至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3D4C-1DEA-4918-ADCA-382E840598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6" name="矩形 1"/>
          <p:cNvSpPr/>
          <p:nvPr/>
        </p:nvSpPr>
        <p:spPr>
          <a:xfrm>
            <a:off x="668160" y="23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感染、创伤、手术等刺激因素改变机体的免疫系统，导致淋巴细胞对髓鞘敏感，出现髓鞘损伤和神经脱髓鞘的现象，运动、感觉神经冲动传导速度减慢甚至停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运动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行性肌无力是最突出的表现。多数患儿自肢体远端开始呈上行性麻痹进展，急性起病者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即可出现严重的肢体瘫痪以及呼吸机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脑神经麻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对称或不对称的脑神经麻痹，以面神经受损引起的面瘫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4906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感觉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早期即有肌肉疼痛，下肢远端出现不同程度的感觉异常和麻木感。年长儿可表现为手套或袜套状分布感觉减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自主神经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较轻微，可出现视物不清，多汗、面色潮红、腹痛、便秘，一过性尿潴留，血压轻度升高或心率失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354B-DA13-4B20-A5D1-EA637F861A5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细胞分离现象，是本病特征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肌电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系统检查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肌力评定、运动能力和深浅感觉等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994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DB28-C663-4335-9C8A-3A882406347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311040" y="136044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药物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疾病初期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）大剂量应用人血免疫球蛋白可明显延缓本病进展速度，减轻极期症状的严重程度，降低气管切开及机械通气的概率。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4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脉注射，连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对症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神经根水肿，可给予甘露醇或短期应用肾上腺皮质激素；积极治疗呼吸肌麻痹，严重病例应及时给予机械通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D4D6-3C49-4E61-91B2-03E91ED37DA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病毒感染、创伤、手术等刺激因素，询问家庭居住的气候、环境条件，家族中有无类似病史的成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患儿肌力变化，注意呼吸及运动感觉功能，了解实验室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家长对该病的预后、疾病的护理方法、药物的副作用等知识的认识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5AC8-FD7B-4F7A-A134-82CB807C088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感觉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效性呼吸型态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呼吸肌瘫痪、咳嗽反射消失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吞咽困难影响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皮肤完整性受损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长期卧床、感觉异常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03FE-54B1-4976-AD01-B870EE57E7F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6" name="AutoShape 53"/>
          <p:cNvSpPr/>
          <p:nvPr/>
        </p:nvSpPr>
        <p:spPr>
          <a:xfrm>
            <a:off x="4124160" y="19890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7" name="圆角矩形 54"/>
          <p:cNvSpPr/>
          <p:nvPr/>
        </p:nvSpPr>
        <p:spPr>
          <a:xfrm>
            <a:off x="4670280" y="1400040"/>
            <a:ext cx="4245120" cy="18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于功能位置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帮助患儿做肢体被动运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恢复期鼓励、指导、督促患儿自主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08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09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10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1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2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13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4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5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16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17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18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9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0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1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2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3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24" name="Group 4"/>
          <p:cNvGrpSpPr/>
          <p:nvPr/>
        </p:nvGrpSpPr>
        <p:grpSpPr>
          <a:xfrm>
            <a:off x="196920" y="1581120"/>
            <a:ext cx="3392640" cy="748800"/>
            <a:chOff x="196920" y="1581120"/>
            <a:chExt cx="3392640" cy="748800"/>
          </a:xfrm>
        </p:grpSpPr>
        <p:grpSp>
          <p:nvGrpSpPr>
            <p:cNvPr id="5025" name="Group 5"/>
            <p:cNvGrpSpPr/>
            <p:nvPr/>
          </p:nvGrpSpPr>
          <p:grpSpPr>
            <a:xfrm>
              <a:off x="196920" y="1581120"/>
              <a:ext cx="792720" cy="748800"/>
              <a:chOff x="196920" y="1581120"/>
              <a:chExt cx="792720" cy="748800"/>
            </a:xfrm>
          </p:grpSpPr>
          <p:sp>
            <p:nvSpPr>
              <p:cNvPr id="5026" name="AutoShape 6"/>
              <p:cNvSpPr/>
              <p:nvPr/>
            </p:nvSpPr>
            <p:spPr>
              <a:xfrm>
                <a:off x="203400" y="15937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7" name="AutoShape 7"/>
              <p:cNvSpPr/>
              <p:nvPr/>
            </p:nvSpPr>
            <p:spPr>
              <a:xfrm>
                <a:off x="196920" y="158112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8" name="AutoShape 8"/>
              <p:cNvSpPr/>
              <p:nvPr/>
            </p:nvSpPr>
            <p:spPr>
              <a:xfrm>
                <a:off x="243000" y="162540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9" name="Line 9"/>
            <p:cNvSpPr/>
            <p:nvPr/>
          </p:nvSpPr>
          <p:spPr>
            <a:xfrm>
              <a:off x="796680" y="222984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0" name="Text Box 10"/>
            <p:cNvSpPr/>
            <p:nvPr/>
          </p:nvSpPr>
          <p:spPr>
            <a:xfrm>
              <a:off x="1702080" y="16437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1" name="Text Box 11"/>
            <p:cNvSpPr/>
            <p:nvPr/>
          </p:nvSpPr>
          <p:spPr>
            <a:xfrm>
              <a:off x="381960" y="163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32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33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34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5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6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37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8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9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0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1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42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43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44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5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6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7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8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9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E627-534F-4827-B31B-042D21D17B6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2" name="AutoShape 53"/>
          <p:cNvSpPr/>
          <p:nvPr/>
        </p:nvSpPr>
        <p:spPr>
          <a:xfrm>
            <a:off x="3624120" y="27972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3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室内空气新鲜，温、湿度适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呼吸道通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困难者给予低流量氧气吸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54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55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56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7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8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59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0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1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62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63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64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5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6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67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8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9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0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071" name="Group 5"/>
            <p:cNvGrpSpPr/>
            <p:nvPr/>
          </p:nvGrpSpPr>
          <p:grpSpPr>
            <a:xfrm>
              <a:off x="196920" y="1565280"/>
              <a:ext cx="792360" cy="748800"/>
              <a:chOff x="196920" y="1565280"/>
              <a:chExt cx="792360" cy="748800"/>
            </a:xfrm>
          </p:grpSpPr>
          <p:sp>
            <p:nvSpPr>
              <p:cNvPr id="5072" name="AutoShape 6"/>
              <p:cNvSpPr/>
              <p:nvPr/>
            </p:nvSpPr>
            <p:spPr>
              <a:xfrm>
                <a:off x="203400" y="157788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3" name="AutoShape 7"/>
              <p:cNvSpPr/>
              <p:nvPr/>
            </p:nvSpPr>
            <p:spPr>
              <a:xfrm>
                <a:off x="196920" y="15652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4" name="AutoShape 8"/>
              <p:cNvSpPr/>
              <p:nvPr/>
            </p:nvSpPr>
            <p:spPr>
              <a:xfrm>
                <a:off x="243000" y="1609560"/>
                <a:ext cx="689760" cy="647280"/>
              </a:xfrm>
              <a:prstGeom prst="hexagon">
                <a:avLst>
                  <a:gd name="adj" fmla="val 2668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75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6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7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8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79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80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1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2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83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4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5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86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7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88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89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90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1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2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93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94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95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F0B8-6FE0-49A5-837B-464F54E0616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8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9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高蛋白、高能量、高维生素易消化饮食，少量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00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01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02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3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4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5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6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7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08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09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10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1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2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3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4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5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16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17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18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9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0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1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2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3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24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25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26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7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8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9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0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1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32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3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34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35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36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7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8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39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0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41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55" name="图片 5" descr="5.jpg"/>
          <p:cNvPicPr/>
          <p:nvPr/>
        </p:nvPicPr>
        <p:blipFill>
          <a:blip r:embed="rId1"/>
          <a:stretch/>
        </p:blipFill>
        <p:spPr>
          <a:xfrm>
            <a:off x="1227240" y="1488960"/>
            <a:ext cx="67658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BDA0-2E2D-4AC2-A8A4-CB64540A855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4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5" name="圆角矩形 54"/>
          <p:cNvSpPr/>
          <p:nvPr/>
        </p:nvSpPr>
        <p:spPr>
          <a:xfrm>
            <a:off x="4284720" y="4103640"/>
            <a:ext cx="4324320" cy="2338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预防压疮。教会家长帮助患儿进行训练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恢复期患儿坚持瘫痪肢体的主动锻炼，定期进行门诊复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46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47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48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9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0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1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2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3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4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55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56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7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8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9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0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1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62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63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64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5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6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67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8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9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70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71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72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3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4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5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6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7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78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9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0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81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82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3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4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5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6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87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节　注意力缺陷多动症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7754-B018-434C-83B3-63762DDE85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力缺陷多动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390600" y="1989000"/>
            <a:ext cx="847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轻微脑功能障碍综合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imal brain dysfunction syndrome, M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以与年龄不相称的多动、注意力不集中、任性、易冲动为主要特征的行为障碍，是一种常见的小儿行为异常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533160" y="2492280"/>
            <a:ext cx="8381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病由多种因素引起。有研究证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明显的遗传倾向；此外，与各种原因导致的脑损伤有关，如妊娠及分娩期脑轻微损伤、神经发育延迟或损害等；不良社会和家庭环境等也可能是致病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7F52-57FC-4470-AE47-1FC8773CE1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7" name="矩形 1"/>
          <p:cNvSpPr/>
          <p:nvPr/>
        </p:nvSpPr>
        <p:spPr>
          <a:xfrm>
            <a:off x="668160" y="23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4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多肽性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有关，它主要分布在额叶，它的异常提示额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功能低下引发注意障碍。分子生物学研究多巴胺代谢异常或敏感性增高，其他研究多集中在丘脑、网状激活系统和前中脑束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注意缺陷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的表现欲年龄明显不相称，注意集中困难和注意持续时间短暂，是本症的核心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活动过多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为患者经常显得不安宁，小动作多，不能安静坐着，在座位上扭来扭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行为冲动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冲动，在信息不充分的情况下快速地做出行为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学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神经系统发育异常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的精细动作、协调运动、空间位置觉等发育较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品行障碍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行障碍表现为攻击性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6922-05B8-4506-9675-D93B33EE6AB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graphicFrame>
        <p:nvGraphicFramePr>
          <p:cNvPr id="5205" name=""/>
          <p:cNvGraphicFramePr/>
          <p:nvPr/>
        </p:nvGraphicFramePr>
        <p:xfrm>
          <a:off x="287280" y="1628640"/>
          <a:ext cx="8567640" cy="4646880"/>
        </p:xfrm>
        <a:graphic>
          <a:graphicData uri="http://schemas.openxmlformats.org/drawingml/2006/table">
            <a:tbl>
              <a:tblPr/>
              <a:tblGrid>
                <a:gridCol w="4554720"/>
                <a:gridCol w="4012920"/>
              </a:tblGrid>
              <a:tr h="454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意力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易受外来影响而激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教室常常离开座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监督时难以有始有终地完成任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未加思考即开始行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持久性集中注意力（作业、游戏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集体活动中常不按次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听不进别人说什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在问题尚未说完时即抢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常丢失生活和学习用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安静地玩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学校课堂注意力分散、成绩不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做出过分的行动如爬高、乱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能组织达到一定目的的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与危险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事未完又做另一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坐立不安、动手动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干扰别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说话过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06" name="矩形 2"/>
          <p:cNvSpPr/>
          <p:nvPr/>
        </p:nvSpPr>
        <p:spPr>
          <a:xfrm>
            <a:off x="2925360" y="10922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H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诊断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5BC7-8F25-40B7-8884-DF19E507EC3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长、教师、医务人员密切配合，尽可能寻找并去除致病诱因，减轻患儿精神负担，减少不良刺激，发现优点及时表扬，增强其自信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用药护理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需要药物治疗的患儿应指导用药方法，并注意对药物的疗效及副作用进行监测。以精神兴奋剂最为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4D1E-AE6C-4932-B361-2479E5CD745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仔细询问产前、产时及产后是否存在导致轻度脑损害的因素，评估患儿生活及居住环境，了解患儿父母的行为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障碍、多动、情绪冲动、学习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及家长的心理状态。家长及周围人群往往对患儿产生厌烦心理，加上周围人群的歧视，会导致患儿失去自信心，产生自悲心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395280" y="1699920"/>
            <a:ext cx="8352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及正常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脑脊液成分与成人相同，为无色碱性液体，内含蛋白质、糖、淋巴细胞和盐类物质，其比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小儿脑脊液随着年龄的增长和脑室的发育逐渐增加，新生儿脑积液的量少、压力低，故抽取脑脊液较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F5BD-DCA4-40AF-BE3B-FC0A8524780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0597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思维紊乱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注意力不集中、活动过度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常有攻击破坏行为和学习成绩落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社会交往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任性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外伤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多动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5907-BC27-4859-A0D9-416CCE64719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8" name="矩形 1"/>
          <p:cNvSpPr/>
          <p:nvPr/>
        </p:nvSpPr>
        <p:spPr>
          <a:xfrm>
            <a:off x="264960" y="1219320"/>
            <a:ext cx="8461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常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其参与文体活动，以释放多余精力并训练其注意力，同时增强其自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患儿制定简单可行的生活制度，循序渐进地培养其注意力和控制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针对其特点合理安排课程和学习计划，改进学习方法，提高学习成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指导患儿及家长采用专业的行为矫正治疗，矫正患儿的多动和冲动，提高其学习能力和社会交往能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BD50-F4DB-43A1-9673-AE807C4D79F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1" name="矩形 1"/>
          <p:cNvSpPr/>
          <p:nvPr/>
        </p:nvSpPr>
        <p:spPr>
          <a:xfrm>
            <a:off x="407880" y="1557360"/>
            <a:ext cx="84819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向患儿及家长介绍本病的相关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解释药物治疗同时加强教育及心理护理的重要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情、关心爱护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有不良习惯和学习困难的患儿，不断增强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患儿的一些攻击性和破坏性行为要严加制止，但应注意方式方法，保护患儿的自尊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庭、学校、社会应协调一致，以取得最佳的教育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6:56:19Z</dcterms:modified>
  <cp:revision>2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